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442F-5573-4729-82F2-7B0D99D3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B034-2269-441C-A3C1-6838B4CF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E06E-536C-4220-BD15-556DD606C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2828-E437-4D47-80C9-07F4189A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A36F-71D6-4F68-BF0A-9B17FA1D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4618-D939-4807-A668-906E3A1E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515E-072E-4E8A-BA43-9C251B4B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8233-EAC8-4E13-A3BB-8A216E64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161D-D909-403A-B8FC-B5C2516E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C72D-C6A2-4179-865F-356711CA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184D-D04C-493B-9E79-9DE53581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D60-6B62-4AEB-94AA-7194C3C1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65E4-8B0B-4A59-98C9-8DC57B29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A2B4-E8B4-49BF-91AB-315DEAA0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01F3-B90E-4C76-BA98-CDC01022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67D6-2B1B-49F9-AAA1-C5D0A336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7B9F-AA8D-4D72-905C-671A543B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E7FB-9841-4452-9201-9FD502B3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915C-30F4-4746-BA41-C94131B8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788E-F38A-4545-BDD2-5EA31DCA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3311-BD95-42DC-B281-9A7524E5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70BD-9917-4920-9AD1-5CE32FD8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068C-29B3-450D-B300-904CAB6A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4B2C-D9E2-441D-B244-AD61F802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7586-EAC2-480E-A369-902A396AD832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E533-48A5-4B4B-9F96-E32406E9CF76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.wmf"/><Relationship Id="rId2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.wmf"/><Relationship Id="rId2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.wmf"/><Relationship Id="rId2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9.wmf"/><Relationship Id="rId3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0.wmf"/><Relationship Id="rId3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.wmf"/><Relationship Id="rId2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.wmf"/><Relationship Id="rId2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.wmf"/><Relationship Id="rId2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.wmf"/><Relationship Id="rId2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.wmf"/><Relationship Id="rId2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.wmf"/><Relationship Id="rId2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952560"/>
            <a:ext cx="9147240" cy="5162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19280" y="2133720"/>
            <a:ext cx="712944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330033"/>
                </a:solidFill>
                <a:latin typeface="Times New Roman"/>
              </a:rPr>
              <a:t>“</a:t>
            </a:r>
            <a:r>
              <a:rPr b="0" lang="es-ES" sz="5400" spc="-1" strike="noStrike">
                <a:solidFill>
                  <a:srgbClr val="330033"/>
                </a:solidFill>
                <a:latin typeface="Times New Roman"/>
              </a:rPr>
              <a:t>INCOTERMS 2010”</a:t>
            </a:r>
            <a:br>
              <a:rPr sz="5400"/>
            </a:br>
            <a:r>
              <a:rPr b="0" lang="es-ES" sz="4800" spc="-1" strike="noStrike">
                <a:solidFill>
                  <a:srgbClr val="330033"/>
                </a:solidFill>
                <a:latin typeface="Times New Roman"/>
              </a:rPr>
              <a:t>Parte II</a:t>
            </a:r>
            <a:br>
              <a:rPr sz="5400"/>
            </a:br>
            <a:br>
              <a:rPr sz="5400"/>
            </a:br>
            <a:r>
              <a:rPr b="0" lang="es-ES" sz="4800" spc="-1" strike="noStrike">
                <a:solidFill>
                  <a:srgbClr val="ffffe1"/>
                </a:solidFill>
                <a:latin typeface="Times New Roman"/>
              </a:rPr>
              <a:t>	</a:t>
            </a:r>
            <a:r>
              <a:rPr b="0" lang="es-ES" sz="4800" spc="-1" strike="noStrike">
                <a:solidFill>
                  <a:srgbClr val="ffffe1"/>
                </a:solidFill>
                <a:latin typeface="Times New Roman"/>
              </a:rPr>
              <a:t>	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6281640"/>
            <a:ext cx="3477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92000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INCOTERM: FOB 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ree On Board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-Libre a bordo (indicando puerto de embarque convenido)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482760" y="1773360"/>
          <a:ext cx="8337240" cy="4365360"/>
        </p:xfrm>
        <a:graphic>
          <a:graphicData uri="http://schemas.openxmlformats.org/drawingml/2006/table">
            <a:tbl>
              <a:tblPr/>
              <a:tblGrid>
                <a:gridCol w="1579680"/>
                <a:gridCol w="3258000"/>
                <a:gridCol w="3499560"/>
              </a:tblGrid>
              <a:tr h="91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po de 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Vende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Compr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4480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arítim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ntregar la mercancía a bordo del buque elegido por el Comprador en el puerto de embarque conveni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fectuar el despacho de exportación de la mercanc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oporcionar Factura Comer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esignar y reservar el Buqu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rrer con los gastos y riesgos inherentes a la  mercancía desde que traspasa la borda del buqu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700200" y="2720880"/>
          <a:ext cx="1135080" cy="8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200" y="2720880"/>
                    <a:ext cx="113508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4025880" y="4394160"/>
            <a:ext cx="4724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954080" y="2906640"/>
          <a:ext cx="72396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4080" y="2906640"/>
                    <a:ext cx="7239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6586560" y="2927520"/>
          <a:ext cx="665280" cy="57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86560" y="2927520"/>
                    <a:ext cx="6652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7435800" y="2781360"/>
          <a:ext cx="1047960" cy="700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35800" y="2781360"/>
                    <a:ext cx="104796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2" name=""/>
          <p:cNvGrpSpPr/>
          <p:nvPr/>
        </p:nvGrpSpPr>
        <p:grpSpPr>
          <a:xfrm>
            <a:off x="2816280" y="2835360"/>
            <a:ext cx="591840" cy="621720"/>
            <a:chOff x="2816280" y="2835360"/>
            <a:chExt cx="591840" cy="621720"/>
          </a:xfrm>
        </p:grpSpPr>
        <p:graphicFrame>
          <p:nvGraphicFramePr>
            <p:cNvPr id="273" name=""/>
            <p:cNvGraphicFramePr/>
            <p:nvPr/>
          </p:nvGraphicFramePr>
          <p:xfrm>
            <a:off x="2968560" y="2835360"/>
            <a:ext cx="287280" cy="393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968560" y="283536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5" name=""/>
            <p:cNvGraphicFramePr/>
            <p:nvPr/>
          </p:nvGraphicFramePr>
          <p:xfrm>
            <a:off x="3120840" y="3063600"/>
            <a:ext cx="287280" cy="393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120840" y="306360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7" name=""/>
            <p:cNvGraphicFramePr/>
            <p:nvPr/>
          </p:nvGraphicFramePr>
          <p:xfrm>
            <a:off x="2816280" y="3063600"/>
            <a:ext cx="287280" cy="393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7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16280" y="306360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79" name=""/>
          <p:cNvGraphicFramePr/>
          <p:nvPr/>
        </p:nvGraphicFramePr>
        <p:xfrm>
          <a:off x="3413160" y="2803680"/>
          <a:ext cx="1197000" cy="695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13160" y="2803680"/>
                    <a:ext cx="11970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4575240" y="2781360"/>
          <a:ext cx="1081080" cy="741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75240" y="2781360"/>
                    <a:ext cx="108108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4105440" y="4486320"/>
            <a:ext cx="439416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y Responsabilidad del 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tar Transporte y Seguro hasta des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el despacho de Impor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25320" y="357516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337880" y="3567240"/>
            <a:ext cx="1456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038480" y="369684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08360" y="35402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484440" y="353844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22920" y="358776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22920" y="35863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39440" y="3533760"/>
            <a:ext cx="100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ert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bar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86200" y="3579840"/>
            <a:ext cx="955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ert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36800" y="238428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49840" y="234648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783480" y="784080"/>
            <a:ext cx="23605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00ac0"/>
                </a:solidFill>
                <a:uFillTx/>
                <a:latin typeface="Arial"/>
              </a:rPr>
              <a:t>Precio Mercancí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Incluye Fletes, Seguro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Maniobras hasta cruz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la borda del bu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y Despacho de Ex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797280" y="36954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440388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07240" y="4487760"/>
            <a:ext cx="319716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egar mercancía cruzando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rda” del bu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despacho de Ex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94240" y="2054160"/>
            <a:ext cx="0" cy="459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314880" y="1720800"/>
            <a:ext cx="609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63520" y="2048040"/>
            <a:ext cx="3733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86280" y="2048040"/>
            <a:ext cx="2743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3320" y="1639800"/>
            <a:ext cx="2819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200ac0"/>
                </a:solidFill>
                <a:latin typeface="Arial"/>
              </a:rPr>
              <a:t>Costos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24360" y="1635120"/>
            <a:ext cx="2819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200ac0"/>
                </a:solidFill>
                <a:latin typeface="Arial"/>
              </a:rPr>
              <a:t>Costos del 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5025960" cy="12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Book Antiqua"/>
              </a:rPr>
              <a:t>FOB -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Free On Board</a:t>
            </a:r>
            <a:r>
              <a:rPr b="0" lang="es-ES_tradnl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Book Antiqua"/>
              </a:rPr>
              <a:t>TRANSFERENCIA DE LA RESPONSABILIDAD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792760" y="2870280"/>
            <a:ext cx="591840" cy="621720"/>
            <a:chOff x="5792760" y="2870280"/>
            <a:chExt cx="591840" cy="621720"/>
          </a:xfrm>
        </p:grpSpPr>
        <p:graphicFrame>
          <p:nvGraphicFramePr>
            <p:cNvPr id="307" name=""/>
            <p:cNvGraphicFramePr/>
            <p:nvPr/>
          </p:nvGraphicFramePr>
          <p:xfrm>
            <a:off x="5945040" y="2870280"/>
            <a:ext cx="287280" cy="393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945040" y="287028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9" name=""/>
            <p:cNvGraphicFramePr/>
            <p:nvPr/>
          </p:nvGraphicFramePr>
          <p:xfrm>
            <a:off x="6097320" y="3098520"/>
            <a:ext cx="287280" cy="3934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097320" y="309852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"/>
            <p:cNvGraphicFramePr/>
            <p:nvPr/>
          </p:nvGraphicFramePr>
          <p:xfrm>
            <a:off x="5792760" y="3098520"/>
            <a:ext cx="287280" cy="3934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792760" y="309852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e1"/>
                </a:solidFill>
                <a:latin typeface="Times New Roman"/>
              </a:rPr>
              <a:t>GRUPO C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50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00"/>
                </a:solidFill>
                <a:latin typeface="Book Antiqua"/>
              </a:rPr>
              <a:t>Características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35b1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00"/>
                </a:solidFill>
                <a:latin typeface="Book Antiqua"/>
              </a:rPr>
              <a:t> </a:t>
            </a:r>
            <a:r>
              <a:rPr b="0" lang="en-US" sz="2600" spc="-1" strike="noStrike">
                <a:solidFill>
                  <a:srgbClr val="663300"/>
                </a:solidFill>
                <a:latin typeface="Book Antiqua"/>
              </a:rPr>
              <a:t>Entrega en Punto de Destin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35b1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00"/>
                </a:solidFill>
                <a:latin typeface="Book Antiqua"/>
              </a:rPr>
              <a:t> </a:t>
            </a:r>
            <a:r>
              <a:rPr b="0" lang="en-US" sz="2600" spc="-1" strike="noStrike">
                <a:solidFill>
                  <a:srgbClr val="663300"/>
                </a:solidFill>
                <a:latin typeface="Book Antiqua"/>
              </a:rPr>
              <a:t>Vendedor designa y paga el Transpor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35b1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00"/>
                </a:solidFill>
                <a:latin typeface="Book Antiqua"/>
              </a:rPr>
              <a:t> </a:t>
            </a:r>
            <a:r>
              <a:rPr b="0" lang="en-US" sz="2600" spc="-1" strike="noStrike">
                <a:solidFill>
                  <a:srgbClr val="663300"/>
                </a:solidFill>
                <a:latin typeface="Book Antiqua"/>
              </a:rPr>
              <a:t>Comprador asume el riesgo del transporte princip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4360" y="155520"/>
            <a:ext cx="7632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INCOTERM: CFR –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ost and Freight</a:t>
            </a: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- Costo y flete</a:t>
            </a: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 (indicando puerto de destino convenido)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711360" y="1700280"/>
          <a:ext cx="8432640" cy="4249440"/>
        </p:xfrm>
        <a:graphic>
          <a:graphicData uri="http://schemas.openxmlformats.org/drawingml/2006/table">
            <a:tbl>
              <a:tblPr/>
              <a:tblGrid>
                <a:gridCol w="2092320"/>
                <a:gridCol w="3111480"/>
                <a:gridCol w="3228840"/>
              </a:tblGrid>
              <a:tr h="899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po de 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Vende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Compr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3501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arítim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SV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ntratar el buque, siendo por su cuenta el flete y la carga hasta el puerto de desti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SV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fectuar el despacho de exportación de la mercanc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SV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oporcionar factura comerci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SV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oportar cualquier gasto adicional y riesgo de pérdida o deterioro y su reclamación y seguimiento desde que la mercancía traspasa la borda del buque en el puerto de embarque.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619200" y="2952720"/>
          <a:ext cx="97308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2952720"/>
                    <a:ext cx="9730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4049640" y="4543560"/>
            <a:ext cx="4724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860480" y="3021120"/>
          <a:ext cx="71136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60480" y="3021120"/>
                    <a:ext cx="7113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6551640" y="3017880"/>
          <a:ext cx="755640" cy="6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1640" y="3017880"/>
                    <a:ext cx="75564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7424640" y="2884320"/>
          <a:ext cx="1174680" cy="770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24640" y="2884320"/>
                    <a:ext cx="117468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6" name=""/>
          <p:cNvGrpSpPr/>
          <p:nvPr/>
        </p:nvGrpSpPr>
        <p:grpSpPr>
          <a:xfrm>
            <a:off x="2770200" y="2984400"/>
            <a:ext cx="591840" cy="622440"/>
            <a:chOff x="2770200" y="2984400"/>
            <a:chExt cx="591840" cy="622440"/>
          </a:xfrm>
        </p:grpSpPr>
        <p:graphicFrame>
          <p:nvGraphicFramePr>
            <p:cNvPr id="327" name=""/>
            <p:cNvGraphicFramePr/>
            <p:nvPr/>
          </p:nvGraphicFramePr>
          <p:xfrm>
            <a:off x="2922480" y="2984400"/>
            <a:ext cx="28728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2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922480" y="298440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9" name=""/>
            <p:cNvGraphicFramePr/>
            <p:nvPr/>
          </p:nvGraphicFramePr>
          <p:xfrm>
            <a:off x="3074760" y="3213000"/>
            <a:ext cx="287280" cy="393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3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074760" y="321300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1" name=""/>
            <p:cNvGraphicFramePr/>
            <p:nvPr/>
          </p:nvGraphicFramePr>
          <p:xfrm>
            <a:off x="2770200" y="3213000"/>
            <a:ext cx="287280" cy="393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3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770200" y="321300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33" name=""/>
          <p:cNvGrpSpPr/>
          <p:nvPr/>
        </p:nvGrpSpPr>
        <p:grpSpPr>
          <a:xfrm>
            <a:off x="5857920" y="3009960"/>
            <a:ext cx="592200" cy="642960"/>
            <a:chOff x="5857920" y="3009960"/>
            <a:chExt cx="592200" cy="642960"/>
          </a:xfrm>
        </p:grpSpPr>
        <p:graphicFrame>
          <p:nvGraphicFramePr>
            <p:cNvPr id="334" name=""/>
            <p:cNvGraphicFramePr/>
            <p:nvPr/>
          </p:nvGraphicFramePr>
          <p:xfrm>
            <a:off x="5995800" y="3009960"/>
            <a:ext cx="303480" cy="414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95800" y="3009960"/>
                      <a:ext cx="3034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6" name=""/>
            <p:cNvGraphicFramePr/>
            <p:nvPr/>
          </p:nvGraphicFramePr>
          <p:xfrm>
            <a:off x="6148440" y="3238560"/>
            <a:ext cx="301680" cy="41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3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148440" y="3238560"/>
                      <a:ext cx="3016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8" name=""/>
            <p:cNvGraphicFramePr/>
            <p:nvPr/>
          </p:nvGraphicFramePr>
          <p:xfrm>
            <a:off x="5857920" y="3246480"/>
            <a:ext cx="287280" cy="393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3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857920" y="324648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40" name=""/>
          <p:cNvGraphicFramePr/>
          <p:nvPr/>
        </p:nvGraphicFramePr>
        <p:xfrm>
          <a:off x="3459240" y="2847960"/>
          <a:ext cx="1197000" cy="766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59240" y="2847960"/>
                    <a:ext cx="11970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4622760" y="2965320"/>
          <a:ext cx="1139760" cy="671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622760" y="2965320"/>
                    <a:ext cx="113976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4140360" y="4613400"/>
            <a:ext cx="50036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y Responsabilidad del 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tar seguro hasta puerto de desti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el despacho de Impor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4640" y="370044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388640" y="3728880"/>
            <a:ext cx="1456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4051080" y="3939840"/>
            <a:ext cx="12600" cy="61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51120" y="3701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25760" y="3701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756400" y="374796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57840" y="3736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445840" y="3718080"/>
            <a:ext cx="100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ert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bar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54600" y="3741840"/>
            <a:ext cx="955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ert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811160" y="215280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29400" y="240516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822840" y="3949560"/>
            <a:ext cx="0" cy="62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39840" y="455436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87800" y="4591080"/>
            <a:ext cx="337392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tar Transporte hasta puer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des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egar en la “borda” del bu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despacho de Ex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722560" y="2124000"/>
            <a:ext cx="11160" cy="390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348520" y="1835280"/>
            <a:ext cx="59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F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678000" y="765000"/>
            <a:ext cx="230292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00ac0"/>
                </a:solidFill>
                <a:uFillTx/>
                <a:latin typeface="Arial"/>
              </a:rPr>
              <a:t>Precio Mercancí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Incluye Fletes hast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puerto de destin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Maniobras hasta cruz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la borda del bu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y Despacho de Export</a:t>
            </a:r>
            <a:r>
              <a:rPr b="0" lang="en-US" sz="16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2360" y="1806480"/>
            <a:ext cx="52434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69920" y="14256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200ac0"/>
                </a:solidFill>
                <a:latin typeface="Arial"/>
              </a:rPr>
              <a:t>Costo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488160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Book Antiqua"/>
              </a:rPr>
              <a:t>CFR -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ost and Freight</a:t>
            </a:r>
            <a:r>
              <a:rPr b="0" lang="es-ES_tradnl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Book Antiqua"/>
              </a:rPr>
              <a:t>TRANSFERENCIA DE LA RESPONSABILIDAD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4000" y="155160"/>
            <a:ext cx="784836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INCOTERM: CIF 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st, Insurance and Freight- 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Costo, seguro y flete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(indicando puerto de destino convenido)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482760" y="1557360"/>
          <a:ext cx="8661240" cy="5057640"/>
        </p:xfrm>
        <a:graphic>
          <a:graphicData uri="http://schemas.openxmlformats.org/drawingml/2006/table">
            <a:tbl>
              <a:tblPr/>
              <a:tblGrid>
                <a:gridCol w="2149200"/>
                <a:gridCol w="3195720"/>
                <a:gridCol w="331632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po de 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Vende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Compr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49726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arítim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ntratar el buque y pagar el flete y la carga hasta el puerto de desti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fectuar el despacho de exportación de la mercanc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uscribir una póliza de seguro de protección de la mercancía en el transporte por un importe mínimo del 110% de su valo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oporcionar la factura comer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unque el Vendedor contrata y paga el seguro, la mercancía viaja a riesgo del Comprador, quien es el beneficiario de la póliza por designación directa o por el carácter transferible de la mism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609480" y="2717640"/>
          <a:ext cx="115884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717640"/>
                    <a:ext cx="11588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4025880" y="4529160"/>
            <a:ext cx="4724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919160" y="2994120"/>
          <a:ext cx="72252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19160" y="2994120"/>
                    <a:ext cx="72252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6726240" y="2990880"/>
          <a:ext cx="722160" cy="55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6240" y="2990880"/>
                    <a:ext cx="7221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7599240" y="2798640"/>
          <a:ext cx="112896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99240" y="2798640"/>
                    <a:ext cx="112896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6" name=""/>
          <p:cNvGrpSpPr/>
          <p:nvPr/>
        </p:nvGrpSpPr>
        <p:grpSpPr>
          <a:xfrm>
            <a:off x="2757600" y="2922480"/>
            <a:ext cx="591840" cy="622440"/>
            <a:chOff x="2757600" y="2922480"/>
            <a:chExt cx="591840" cy="622440"/>
          </a:xfrm>
        </p:grpSpPr>
        <p:graphicFrame>
          <p:nvGraphicFramePr>
            <p:cNvPr id="377" name=""/>
            <p:cNvGraphicFramePr/>
            <p:nvPr/>
          </p:nvGraphicFramePr>
          <p:xfrm>
            <a:off x="2909880" y="2922480"/>
            <a:ext cx="28728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7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909880" y="292248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9" name=""/>
            <p:cNvGraphicFramePr/>
            <p:nvPr/>
          </p:nvGraphicFramePr>
          <p:xfrm>
            <a:off x="3062160" y="3151080"/>
            <a:ext cx="287280" cy="393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062160" y="315108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1" name=""/>
            <p:cNvGraphicFramePr/>
            <p:nvPr/>
          </p:nvGraphicFramePr>
          <p:xfrm>
            <a:off x="2757600" y="3151080"/>
            <a:ext cx="287280" cy="393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8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757600" y="315108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83" name=""/>
          <p:cNvGraphicFramePr/>
          <p:nvPr/>
        </p:nvGraphicFramePr>
        <p:xfrm>
          <a:off x="3470400" y="2705040"/>
          <a:ext cx="1197000" cy="835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70400" y="2705040"/>
                    <a:ext cx="11970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4599000" y="2671920"/>
          <a:ext cx="1312920" cy="869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99000" y="2671920"/>
                    <a:ext cx="131292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4043520" y="4599000"/>
            <a:ext cx="439416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y Responsabilidad del 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despacho de Impor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6800" y="363996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501320" y="3621240"/>
            <a:ext cx="1456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4038480" y="38304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820960" y="36399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95600" y="3652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919840" y="3662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919840" y="36529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03080" y="3633840"/>
            <a:ext cx="100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ert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bar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894280" y="3656160"/>
            <a:ext cx="955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ert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903320" y="239076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826320" y="241308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798720" y="38304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4920" y="450540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6320" y="4576680"/>
            <a:ext cx="366804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tar Transporte y Seguro has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erto de des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egar en la “borda” del bu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despacho de Ex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872320" y="2236680"/>
            <a:ext cx="0" cy="43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18160" y="1947960"/>
            <a:ext cx="50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589440" y="476280"/>
            <a:ext cx="235908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00ac0"/>
                </a:solidFill>
                <a:uFillTx/>
                <a:latin typeface="Arial"/>
              </a:rPr>
              <a:t>Precio Mercancí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Incluye Fletes y Seg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hasta puerto de destin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Maniobras hasta cruz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la borda del bu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y Despacho de Export</a:t>
            </a:r>
            <a:r>
              <a:rPr b="0" lang="en-US" sz="16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0280" y="1868400"/>
            <a:ext cx="53341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268280" y="14479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200ac0"/>
                </a:solidFill>
                <a:latin typeface="Arial"/>
              </a:rPr>
              <a:t>Costo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545796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Book Antiqua"/>
              </a:rPr>
              <a:t>CIF -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ost, Insurance and Freight 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Book Antiqua"/>
              </a:rPr>
              <a:t>TRANSFERENCIA DE LA RESPONSABILIDAD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6033960" y="2936880"/>
            <a:ext cx="591840" cy="622440"/>
            <a:chOff x="6033960" y="2936880"/>
            <a:chExt cx="591840" cy="622440"/>
          </a:xfrm>
        </p:grpSpPr>
        <p:graphicFrame>
          <p:nvGraphicFramePr>
            <p:cNvPr id="409" name=""/>
            <p:cNvGraphicFramePr/>
            <p:nvPr/>
          </p:nvGraphicFramePr>
          <p:xfrm>
            <a:off x="6186240" y="2936880"/>
            <a:ext cx="287280" cy="3938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186240" y="293688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1" name=""/>
            <p:cNvGraphicFramePr/>
            <p:nvPr/>
          </p:nvGraphicFramePr>
          <p:xfrm>
            <a:off x="6338520" y="3165480"/>
            <a:ext cx="287280" cy="3938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338520" y="316548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3" name=""/>
            <p:cNvGraphicFramePr/>
            <p:nvPr/>
          </p:nvGraphicFramePr>
          <p:xfrm>
            <a:off x="6033960" y="3165480"/>
            <a:ext cx="287280" cy="3938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14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033960" y="316548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000" y="155160"/>
            <a:ext cx="828036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0033"/>
                </a:solidFill>
                <a:latin typeface="Book Antiqua"/>
              </a:rPr>
              <a:t>INCOTERM: CPT – </a:t>
            </a:r>
            <a:r>
              <a:rPr b="0" lang="en-US" sz="2600" spc="-1" strike="noStrike">
                <a:solidFill>
                  <a:srgbClr val="330033"/>
                </a:solidFill>
                <a:latin typeface="Book Antiqua"/>
              </a:rPr>
              <a:t>Carriage Paid To </a:t>
            </a:r>
            <a:r>
              <a:rPr b="0" lang="es-ES" sz="2600" spc="-1" strike="noStrike">
                <a:solidFill>
                  <a:srgbClr val="330033"/>
                </a:solidFill>
                <a:latin typeface="Book Antiqua"/>
              </a:rPr>
              <a:t>- Porte pagado hasta (indicando el lugar de destino convenido)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11280" y="1700280"/>
          <a:ext cx="8281800" cy="3960360"/>
        </p:xfrm>
        <a:graphic>
          <a:graphicData uri="http://schemas.openxmlformats.org/drawingml/2006/table">
            <a:tbl>
              <a:tblPr/>
              <a:tblGrid>
                <a:gridCol w="2054880"/>
                <a:gridCol w="3055680"/>
                <a:gridCol w="3171240"/>
              </a:tblGrid>
              <a:tr h="714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po de transp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Vende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Comp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2457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odo tipo de transp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ntratar y pagar el transporte hasta el lugar conveni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fectuar el despacho de exportación de la mercancía, incluidos los costos que esto conllev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oporcional la factura comer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oportar los riesgos inherentes a la mercancía desde que el Vendedor la entrega al primer transportista, así como cualquier gasto adicional en transito (carga, descarga, daños en tránsito, etc.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469800" y="2916360"/>
          <a:ext cx="1065240" cy="73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2916360"/>
                    <a:ext cx="106524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3587760" y="4659480"/>
            <a:ext cx="4724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1652760" y="3081240"/>
          <a:ext cx="6411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52760" y="3081240"/>
                    <a:ext cx="6411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6313320" y="3098880"/>
          <a:ext cx="652680" cy="60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13320" y="3098880"/>
                    <a:ext cx="65268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7101000" y="2803680"/>
          <a:ext cx="966600" cy="814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01000" y="2803680"/>
                    <a:ext cx="9666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6" name=""/>
          <p:cNvGrpSpPr/>
          <p:nvPr/>
        </p:nvGrpSpPr>
        <p:grpSpPr>
          <a:xfrm>
            <a:off x="2376360" y="3043080"/>
            <a:ext cx="591840" cy="622440"/>
            <a:chOff x="2376360" y="3043080"/>
            <a:chExt cx="591840" cy="622440"/>
          </a:xfrm>
        </p:grpSpPr>
        <p:graphicFrame>
          <p:nvGraphicFramePr>
            <p:cNvPr id="427" name=""/>
            <p:cNvGraphicFramePr/>
            <p:nvPr/>
          </p:nvGraphicFramePr>
          <p:xfrm>
            <a:off x="2528640" y="3043080"/>
            <a:ext cx="28728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28640" y="304308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9" name=""/>
            <p:cNvGraphicFramePr/>
            <p:nvPr/>
          </p:nvGraphicFramePr>
          <p:xfrm>
            <a:off x="2680920" y="3271680"/>
            <a:ext cx="287280" cy="393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680920" y="327168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1" name=""/>
            <p:cNvGraphicFramePr/>
            <p:nvPr/>
          </p:nvGraphicFramePr>
          <p:xfrm>
            <a:off x="2376360" y="3271680"/>
            <a:ext cx="287280" cy="393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3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376360" y="327168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33" name=""/>
          <p:cNvGrpSpPr/>
          <p:nvPr/>
        </p:nvGrpSpPr>
        <p:grpSpPr>
          <a:xfrm>
            <a:off x="5634000" y="3030480"/>
            <a:ext cx="592200" cy="642960"/>
            <a:chOff x="5634000" y="3030480"/>
            <a:chExt cx="592200" cy="642960"/>
          </a:xfrm>
        </p:grpSpPr>
        <p:graphicFrame>
          <p:nvGraphicFramePr>
            <p:cNvPr id="434" name=""/>
            <p:cNvGraphicFramePr/>
            <p:nvPr/>
          </p:nvGraphicFramePr>
          <p:xfrm>
            <a:off x="5771880" y="3030480"/>
            <a:ext cx="303480" cy="414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3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771880" y="3030480"/>
                      <a:ext cx="3034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6" name=""/>
            <p:cNvGraphicFramePr/>
            <p:nvPr/>
          </p:nvGraphicFramePr>
          <p:xfrm>
            <a:off x="5924520" y="3259080"/>
            <a:ext cx="301680" cy="41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3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924520" y="3259080"/>
                      <a:ext cx="3016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8" name=""/>
            <p:cNvGraphicFramePr/>
            <p:nvPr/>
          </p:nvGraphicFramePr>
          <p:xfrm>
            <a:off x="5634000" y="3267000"/>
            <a:ext cx="287280" cy="393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634000" y="326700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40" name=""/>
          <p:cNvSpPr/>
          <p:nvPr/>
        </p:nvSpPr>
        <p:spPr>
          <a:xfrm>
            <a:off x="3619440" y="4741920"/>
            <a:ext cx="4394160" cy="16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y Responsabilidad del 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tar seguro hasta punto de desti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el despacho de Impor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5080" y="36892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059960" y="3800520"/>
            <a:ext cx="1456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598920" y="39891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405160" y="378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090960" y="380700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537160" y="379404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548320" y="378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717560" y="3798720"/>
            <a:ext cx="13604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gar convenido de Entre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36080" y="3813120"/>
            <a:ext cx="88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gar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647720" y="242100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259680" y="2425680"/>
            <a:ext cx="7920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4468680" y="2411280"/>
            <a:ext cx="1090440" cy="1441080"/>
            <a:chOff x="4468680" y="2411280"/>
            <a:chExt cx="1090440" cy="1441080"/>
          </a:xfrm>
        </p:grpSpPr>
        <p:graphicFrame>
          <p:nvGraphicFramePr>
            <p:cNvPr id="453" name=""/>
            <p:cNvGraphicFramePr/>
            <p:nvPr/>
          </p:nvGraphicFramePr>
          <p:xfrm>
            <a:off x="4616640" y="2411280"/>
            <a:ext cx="942480" cy="3546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54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616640" y="2411280"/>
                      <a:ext cx="94248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5" name=""/>
            <p:cNvGraphicFramePr/>
            <p:nvPr/>
          </p:nvGraphicFramePr>
          <p:xfrm>
            <a:off x="4728240" y="3398040"/>
            <a:ext cx="686880" cy="4543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56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728240" y="3398040"/>
                      <a:ext cx="686880" cy="45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7" name=""/>
            <p:cNvGraphicFramePr/>
            <p:nvPr/>
          </p:nvGraphicFramePr>
          <p:xfrm>
            <a:off x="4468680" y="2765880"/>
            <a:ext cx="1060560" cy="5238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58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468680" y="2765880"/>
                      <a:ext cx="106056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9" name=""/>
          <p:cNvSpPr/>
          <p:nvPr/>
        </p:nvSpPr>
        <p:spPr>
          <a:xfrm flipV="1">
            <a:off x="3370320" y="399528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419040" y="4671720"/>
            <a:ext cx="2971800" cy="11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49200" y="4726080"/>
            <a:ext cx="3306960" cy="14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tar Transporte hasta pu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des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egar en el lugar conven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despacho de Ex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5866920" y="2421000"/>
            <a:ext cx="1116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651640" y="2060640"/>
            <a:ext cx="58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557760" y="533520"/>
            <a:ext cx="258480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00ac0"/>
                </a:solidFill>
                <a:uFillTx/>
                <a:latin typeface="Arial"/>
              </a:rPr>
              <a:t>Precio Mercancí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Incluye Fletes hast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punto de destin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Maniobras de carga en e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lugar conven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y Despacho de Ex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39640" y="1916280"/>
            <a:ext cx="54864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835280" y="155736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200ac0"/>
                </a:solidFill>
                <a:latin typeface="Arial"/>
              </a:rPr>
              <a:t>Costo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2992320" y="2378160"/>
            <a:ext cx="1068120" cy="1512360"/>
            <a:chOff x="2992320" y="2378160"/>
            <a:chExt cx="1068120" cy="1512360"/>
          </a:xfrm>
        </p:grpSpPr>
        <p:graphicFrame>
          <p:nvGraphicFramePr>
            <p:cNvPr id="468" name=""/>
            <p:cNvGraphicFramePr/>
            <p:nvPr/>
          </p:nvGraphicFramePr>
          <p:xfrm>
            <a:off x="3137400" y="2378160"/>
            <a:ext cx="923040" cy="3722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469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3137400" y="2378160"/>
                      <a:ext cx="923040" cy="37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0" name=""/>
            <p:cNvGraphicFramePr/>
            <p:nvPr/>
          </p:nvGraphicFramePr>
          <p:xfrm>
            <a:off x="3246840" y="3413880"/>
            <a:ext cx="672840" cy="4766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471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3246840" y="3413880"/>
                      <a:ext cx="672840" cy="4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2" name=""/>
            <p:cNvGraphicFramePr/>
            <p:nvPr/>
          </p:nvGraphicFramePr>
          <p:xfrm>
            <a:off x="2992320" y="2750400"/>
            <a:ext cx="1038960" cy="5497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473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2992320" y="2750400"/>
                      <a:ext cx="1038960" cy="54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6249960" cy="16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CPT –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arriage Paid To</a:t>
            </a: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Book Antiqua"/>
              </a:rPr>
              <a:t>TRANSFERENCIA DE LA RESPONSABILIDAD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4000" y="155520"/>
            <a:ext cx="8280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INCOTERM: CIP –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arriage and Insurance Paid To </a:t>
            </a: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Porte, </a:t>
            </a:r>
            <a:r>
              <a:rPr b="0" lang="es-ES_tradnl" sz="2600" spc="-1" strike="noStrike">
                <a:solidFill>
                  <a:srgbClr val="000000"/>
                </a:solidFill>
                <a:latin typeface="Book Antiqua"/>
              </a:rPr>
              <a:t>Seguro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Pagado Hasta </a:t>
            </a: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(indicando el punto de destino convenido)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733320" y="1628640"/>
          <a:ext cx="8086680" cy="4753080"/>
        </p:xfrm>
        <a:graphic>
          <a:graphicData uri="http://schemas.openxmlformats.org/drawingml/2006/table">
            <a:tbl>
              <a:tblPr/>
              <a:tblGrid>
                <a:gridCol w="1594080"/>
                <a:gridCol w="3216240"/>
                <a:gridCol w="327636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po de 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Vende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Compr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odo tipo de 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ntratar y pagar el transporte de la mercancía hasta el lugar conveni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fectuar el despacho de exportación de la mercanc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ntratar una póliza de seguro de protección de la mercancía en el transporte por un importe mínimo del 110% de su valo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oporcional la factura comerci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oportar los riesgos inherentes a la mercancía desde que el Vendedor la entrega al primer transportista, así como cualquier gasto adicional en transito (carga, descarga, daños en tránsito, etc.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71640" y="2492280"/>
            <a:ext cx="70387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00ac0"/>
                </a:solidFill>
                <a:latin typeface="Book Antiqua"/>
              </a:rPr>
              <a:t>IV. Obligaciones de cada una de las par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400536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Característica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Mínima Obligación para el Vende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7" name=""/>
          <p:cNvGraphicFramePr/>
          <p:nvPr/>
        </p:nvGraphicFramePr>
        <p:xfrm>
          <a:off x="6064200" y="3274920"/>
          <a:ext cx="30168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4200" y="3274920"/>
                    <a:ext cx="3016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>
            <a:off x="2736720" y="38307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422520" y="384336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645160" y="379260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645160" y="3805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68200" y="4662360"/>
            <a:ext cx="35053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025880" y="4686480"/>
            <a:ext cx="4724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620640" y="2809800"/>
          <a:ext cx="1089000" cy="90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640" y="2809800"/>
                    <a:ext cx="1089000" cy="9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4807080" y="-147600"/>
            <a:ext cx="18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1811160" y="3132000"/>
          <a:ext cx="750960" cy="58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11160" y="3132000"/>
                    <a:ext cx="7509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6539040" y="3138480"/>
          <a:ext cx="639720" cy="56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39040" y="3138480"/>
                    <a:ext cx="63972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7364520" y="2843280"/>
          <a:ext cx="1149120" cy="836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64520" y="2843280"/>
                    <a:ext cx="114912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4" name=""/>
          <p:cNvGrpSpPr/>
          <p:nvPr/>
        </p:nvGrpSpPr>
        <p:grpSpPr>
          <a:xfrm>
            <a:off x="2843280" y="3090960"/>
            <a:ext cx="475920" cy="635040"/>
            <a:chOff x="2843280" y="3090960"/>
            <a:chExt cx="475920" cy="635040"/>
          </a:xfrm>
        </p:grpSpPr>
        <p:graphicFrame>
          <p:nvGraphicFramePr>
            <p:cNvPr id="495" name=""/>
            <p:cNvGraphicFramePr/>
            <p:nvPr/>
          </p:nvGraphicFramePr>
          <p:xfrm>
            <a:off x="3031920" y="3332160"/>
            <a:ext cx="287280" cy="393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9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031920" y="333216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7" name=""/>
            <p:cNvGraphicFramePr/>
            <p:nvPr/>
          </p:nvGraphicFramePr>
          <p:xfrm>
            <a:off x="2843280" y="3090960"/>
            <a:ext cx="287280" cy="393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9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43280" y="309096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99" name=""/>
          <p:cNvGraphicFramePr/>
          <p:nvPr/>
        </p:nvGraphicFramePr>
        <p:xfrm>
          <a:off x="2728800" y="3321000"/>
          <a:ext cx="287280" cy="393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28800" y="3321000"/>
                    <a:ext cx="2872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1" name=""/>
          <p:cNvGrpSpPr/>
          <p:nvPr/>
        </p:nvGrpSpPr>
        <p:grpSpPr>
          <a:xfrm>
            <a:off x="5686560" y="3094200"/>
            <a:ext cx="441000" cy="630000"/>
            <a:chOff x="5686560" y="3094200"/>
            <a:chExt cx="441000" cy="630000"/>
          </a:xfrm>
        </p:grpSpPr>
        <p:graphicFrame>
          <p:nvGraphicFramePr>
            <p:cNvPr id="502" name=""/>
            <p:cNvGraphicFramePr/>
            <p:nvPr/>
          </p:nvGraphicFramePr>
          <p:xfrm>
            <a:off x="5824440" y="3094200"/>
            <a:ext cx="303120" cy="41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03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440" y="3094200"/>
                      <a:ext cx="30312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4" name=""/>
            <p:cNvGraphicFramePr/>
            <p:nvPr/>
          </p:nvGraphicFramePr>
          <p:xfrm>
            <a:off x="5686560" y="3330720"/>
            <a:ext cx="287280" cy="393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0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686560" y="333072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6" name=""/>
          <p:cNvSpPr/>
          <p:nvPr/>
        </p:nvSpPr>
        <p:spPr>
          <a:xfrm>
            <a:off x="4114800" y="4686480"/>
            <a:ext cx="439416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y Responsabilidad del 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el despacho de Impor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8000" y="378144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255080" y="3728880"/>
            <a:ext cx="1456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4014720" y="4151160"/>
            <a:ext cx="11160" cy="5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477520" y="3819600"/>
            <a:ext cx="100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ert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bar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94400" y="3770280"/>
            <a:ext cx="955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ert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878120" y="263376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543720" y="258444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4513320" y="2725560"/>
            <a:ext cx="996840" cy="1525320"/>
            <a:chOff x="4513320" y="2725560"/>
            <a:chExt cx="996840" cy="1525320"/>
          </a:xfrm>
        </p:grpSpPr>
        <p:graphicFrame>
          <p:nvGraphicFramePr>
            <p:cNvPr id="515" name=""/>
            <p:cNvGraphicFramePr/>
            <p:nvPr/>
          </p:nvGraphicFramePr>
          <p:xfrm>
            <a:off x="4648680" y="2725560"/>
            <a:ext cx="861480" cy="3754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648680" y="2725560"/>
                      <a:ext cx="861480" cy="37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7" name=""/>
            <p:cNvGraphicFramePr/>
            <p:nvPr/>
          </p:nvGraphicFramePr>
          <p:xfrm>
            <a:off x="4750560" y="3769920"/>
            <a:ext cx="627840" cy="480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518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750560" y="3769920"/>
                      <a:ext cx="62784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9" name=""/>
            <p:cNvGraphicFramePr/>
            <p:nvPr/>
          </p:nvGraphicFramePr>
          <p:xfrm>
            <a:off x="4513320" y="3101040"/>
            <a:ext cx="969120" cy="5544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52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513320" y="3101040"/>
                      <a:ext cx="96912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21" name=""/>
          <p:cNvSpPr/>
          <p:nvPr/>
        </p:nvSpPr>
        <p:spPr>
          <a:xfrm flipV="1">
            <a:off x="3784680" y="4160880"/>
            <a:ext cx="0" cy="51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27760" y="4675320"/>
            <a:ext cx="3073680" cy="14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tar Transporte y Seg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ta punto de des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egar en el lugar conven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despacho de Ex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91200" y="208116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798880" y="1757520"/>
            <a:ext cx="51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556320" y="404640"/>
            <a:ext cx="258768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00ac0"/>
                </a:solidFill>
                <a:uFillTx/>
                <a:latin typeface="Arial"/>
              </a:rPr>
              <a:t>Precio Mercancí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Incluye Fletes y Segu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hasta punto de destin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Maniobras de carga en e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lugar conven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y Despacho de Ex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3430440" y="2705040"/>
            <a:ext cx="996840" cy="1391760"/>
            <a:chOff x="3430440" y="2705040"/>
            <a:chExt cx="996840" cy="1391760"/>
          </a:xfrm>
        </p:grpSpPr>
        <p:graphicFrame>
          <p:nvGraphicFramePr>
            <p:cNvPr id="527" name=""/>
            <p:cNvGraphicFramePr/>
            <p:nvPr/>
          </p:nvGraphicFramePr>
          <p:xfrm>
            <a:off x="3565800" y="2705040"/>
            <a:ext cx="861480" cy="3427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528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3565800" y="2705040"/>
                      <a:ext cx="8614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9" name=""/>
            <p:cNvGraphicFramePr/>
            <p:nvPr/>
          </p:nvGraphicFramePr>
          <p:xfrm>
            <a:off x="3668040" y="3657960"/>
            <a:ext cx="628200" cy="4388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530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3668040" y="3657960"/>
                      <a:ext cx="628200" cy="43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1" name=""/>
            <p:cNvGraphicFramePr/>
            <p:nvPr/>
          </p:nvGraphicFramePr>
          <p:xfrm>
            <a:off x="3430440" y="3047760"/>
            <a:ext cx="969480" cy="50580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3430440" y="3047760"/>
                      <a:ext cx="969480" cy="50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3" name=""/>
          <p:cNvSpPr/>
          <p:nvPr/>
        </p:nvSpPr>
        <p:spPr>
          <a:xfrm>
            <a:off x="520560" y="2049480"/>
            <a:ext cx="5562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38120" y="171936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200ac0"/>
                </a:solidFill>
                <a:latin typeface="Arial"/>
              </a:rPr>
              <a:t>Costo y Seguro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4629240" y="2281320"/>
          <a:ext cx="830160" cy="3556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629240" y="2281320"/>
                    <a:ext cx="8301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59040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CIP –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arriage and Insurance Paid To 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Book Antiqua"/>
              </a:rPr>
              <a:t>TRANSFERENCIA DE LA RESPONSABILIDAD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e1"/>
                </a:solidFill>
                <a:latin typeface="Times New Roman"/>
              </a:rPr>
              <a:t>GRUPO 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71280" y="1197000"/>
            <a:ext cx="750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00"/>
                </a:solidFill>
                <a:latin typeface="Book Antiqua"/>
              </a:rPr>
              <a:t>Características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35b1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00"/>
                </a:solidFill>
                <a:latin typeface="Book Antiqua"/>
              </a:rPr>
              <a:t> </a:t>
            </a:r>
            <a:r>
              <a:rPr b="0" lang="en-US" sz="2600" spc="-1" strike="noStrike">
                <a:solidFill>
                  <a:srgbClr val="663300"/>
                </a:solidFill>
                <a:latin typeface="Book Antiqua"/>
              </a:rPr>
              <a:t>Entrega en Punto de Destin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35b1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00"/>
                </a:solidFill>
                <a:latin typeface="Book Antiqua"/>
              </a:rPr>
              <a:t> </a:t>
            </a:r>
            <a:r>
              <a:rPr b="0" lang="en-US" sz="2600" spc="-1" strike="noStrike">
                <a:solidFill>
                  <a:srgbClr val="663300"/>
                </a:solidFill>
                <a:latin typeface="Book Antiqua"/>
              </a:rPr>
              <a:t>Vendedor designa y paga el Transpor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35b1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00"/>
                </a:solidFill>
                <a:latin typeface="Book Antiqua"/>
              </a:rPr>
              <a:t> </a:t>
            </a:r>
            <a:r>
              <a:rPr b="0" lang="en-US" sz="2600" spc="-1" strike="noStrike">
                <a:solidFill>
                  <a:srgbClr val="663300"/>
                </a:solidFill>
                <a:latin typeface="Book Antiqua"/>
              </a:rPr>
              <a:t>Vendedor asume el riesgo del transporte princip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000" y="155520"/>
            <a:ext cx="8280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INCOTERM: DAT – </a:t>
            </a:r>
            <a:r>
              <a:rPr b="0" lang="de-DE" sz="2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Delivered at Terminal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Book Antiqua"/>
              </a:rPr>
              <a:t>Entregado en Terminal o Puerto o Lugar Convenido</a:t>
            </a:r>
            <a:br>
              <a:rPr sz="2600"/>
            </a:br>
            <a:r>
              <a:rPr b="0" lang="es-ES_tradnl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482760" y="1773360"/>
          <a:ext cx="8192880" cy="4752720"/>
        </p:xfrm>
        <a:graphic>
          <a:graphicData uri="http://schemas.openxmlformats.org/drawingml/2006/table">
            <a:tbl>
              <a:tblPr/>
              <a:tblGrid>
                <a:gridCol w="1757160"/>
                <a:gridCol w="2724120"/>
                <a:gridCol w="371160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po de 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Vende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Compr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43628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odo tipo de 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ntregar la mercancía en la terminal o puerto convenido, pagando el transporte y soportando riesgos hasta dicho punto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fectuar el despacho de exportación de la mercancí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oporcional la factura comer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oportar todo tipo de riesgo inherente y gasto de transporte desde que la mercancía se pone a su disposición en el lugar convenido en la termin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fectuar el despacho de importación de la mercanc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agar los impuestos aplicables a la importac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33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807080" y="-147600"/>
            <a:ext cx="18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4594320" cy="16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Book Antiqua"/>
              </a:rPr>
              <a:t>DAP – </a:t>
            </a:r>
            <a:r>
              <a:rPr b="0" lang="es-ES_tradnl" sz="2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Delivered at Place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Book Antiqua"/>
              </a:rPr>
              <a:t>TRANSFERENCIA DE LA RESPONSABILIDAD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595440" y="2908440"/>
          <a:ext cx="112716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2908440"/>
                    <a:ext cx="11271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>
            <a:off x="4638600" y="47372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859040" y="3071880"/>
          <a:ext cx="65232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9040" y="3071880"/>
                    <a:ext cx="65232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5969160" y="3116160"/>
          <a:ext cx="676080" cy="563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69160" y="3116160"/>
                    <a:ext cx="67608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"/>
          <p:cNvGraphicFramePr/>
          <p:nvPr/>
        </p:nvGraphicFramePr>
        <p:xfrm>
          <a:off x="6781680" y="2894040"/>
          <a:ext cx="1284480" cy="78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81680" y="2894040"/>
                    <a:ext cx="12844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4" name=""/>
          <p:cNvGrpSpPr/>
          <p:nvPr/>
        </p:nvGrpSpPr>
        <p:grpSpPr>
          <a:xfrm>
            <a:off x="2838600" y="3043080"/>
            <a:ext cx="591480" cy="622080"/>
            <a:chOff x="2838600" y="3043080"/>
            <a:chExt cx="591480" cy="622080"/>
          </a:xfrm>
        </p:grpSpPr>
        <p:graphicFrame>
          <p:nvGraphicFramePr>
            <p:cNvPr id="555" name=""/>
            <p:cNvGraphicFramePr/>
            <p:nvPr/>
          </p:nvGraphicFramePr>
          <p:xfrm>
            <a:off x="2990880" y="3043080"/>
            <a:ext cx="286920" cy="393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990880" y="304308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7" name=""/>
            <p:cNvGraphicFramePr/>
            <p:nvPr/>
          </p:nvGraphicFramePr>
          <p:xfrm>
            <a:off x="3143160" y="3271680"/>
            <a:ext cx="286920" cy="393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5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143160" y="327168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9" name=""/>
            <p:cNvGraphicFramePr/>
            <p:nvPr/>
          </p:nvGraphicFramePr>
          <p:xfrm>
            <a:off x="2838600" y="3271680"/>
            <a:ext cx="287280" cy="393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6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38600" y="327168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61" name=""/>
          <p:cNvGraphicFramePr/>
          <p:nvPr/>
        </p:nvGraphicFramePr>
        <p:xfrm>
          <a:off x="5407200" y="3222720"/>
          <a:ext cx="301320" cy="414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07200" y="3222720"/>
                    <a:ext cx="30132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3" name=""/>
          <p:cNvGrpSpPr/>
          <p:nvPr/>
        </p:nvGrpSpPr>
        <p:grpSpPr>
          <a:xfrm>
            <a:off x="5057640" y="2981160"/>
            <a:ext cx="441360" cy="630000"/>
            <a:chOff x="5057640" y="2981160"/>
            <a:chExt cx="441360" cy="630000"/>
          </a:xfrm>
        </p:grpSpPr>
        <p:graphicFrame>
          <p:nvGraphicFramePr>
            <p:cNvPr id="564" name=""/>
            <p:cNvGraphicFramePr/>
            <p:nvPr/>
          </p:nvGraphicFramePr>
          <p:xfrm>
            <a:off x="5195880" y="2981160"/>
            <a:ext cx="303120" cy="41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6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195880" y="2981160"/>
                      <a:ext cx="30312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6" name=""/>
            <p:cNvGraphicFramePr/>
            <p:nvPr/>
          </p:nvGraphicFramePr>
          <p:xfrm>
            <a:off x="5057640" y="3217680"/>
            <a:ext cx="287280" cy="393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67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057640" y="321768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8" name=""/>
          <p:cNvSpPr/>
          <p:nvPr/>
        </p:nvSpPr>
        <p:spPr>
          <a:xfrm>
            <a:off x="4629240" y="4788000"/>
            <a:ext cx="416556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y Responsabil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 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el despacho de Impor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4240" y="38070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735960" y="3681360"/>
            <a:ext cx="1456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4640400" y="4289400"/>
            <a:ext cx="0" cy="44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716200" y="3797280"/>
            <a:ext cx="96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325240" y="3813120"/>
            <a:ext cx="1423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ís de Orig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997520" y="3844800"/>
            <a:ext cx="1443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ís de 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776240" y="254808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913360" y="246204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 flipV="1">
            <a:off x="4141440" y="4313160"/>
            <a:ext cx="11160" cy="42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38280" y="4749840"/>
            <a:ext cx="35272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075320" y="4786200"/>
            <a:ext cx="3073680" cy="14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tar Transporte y Seg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ta punto de des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egar en el lugar conven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despacho de Ex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125240" y="1828800"/>
            <a:ext cx="60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557760" y="706320"/>
            <a:ext cx="258480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00ac0"/>
                </a:solidFill>
                <a:uFillTx/>
                <a:latin typeface="Arial"/>
              </a:rPr>
              <a:t>Precio Mercancí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Incluye Fletes y Segu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hasta frontera de Export.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Maniobras de carga en e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lugar conven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y Despacho de Ex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046840" y="37926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384800" y="4203720"/>
            <a:ext cx="0" cy="604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8560" y="2097000"/>
            <a:ext cx="3743280" cy="1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284120" y="166356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200ac0"/>
                </a:solidFill>
                <a:latin typeface="Arial"/>
              </a:rPr>
              <a:t>Costos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422600" y="2095560"/>
            <a:ext cx="1935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637160" y="14288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200ac0"/>
                </a:solidFill>
                <a:latin typeface="Arial"/>
              </a:rPr>
              <a:t>Costos d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611600" y="1687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200ac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3624120" y="2287440"/>
            <a:ext cx="1228680" cy="2069640"/>
            <a:chOff x="3624120" y="2287440"/>
            <a:chExt cx="1228680" cy="2069640"/>
          </a:xfrm>
        </p:grpSpPr>
        <p:graphicFrame>
          <p:nvGraphicFramePr>
            <p:cNvPr id="590" name=""/>
            <p:cNvGraphicFramePr/>
            <p:nvPr/>
          </p:nvGraphicFramePr>
          <p:xfrm>
            <a:off x="3740760" y="2287440"/>
            <a:ext cx="1105920" cy="7178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9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740760" y="2287440"/>
                      <a:ext cx="1105920" cy="71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92" name=""/>
            <p:cNvGrpSpPr/>
            <p:nvPr/>
          </p:nvGrpSpPr>
          <p:grpSpPr>
            <a:xfrm>
              <a:off x="3624120" y="3063600"/>
              <a:ext cx="1228680" cy="1293480"/>
              <a:chOff x="3624120" y="3063600"/>
              <a:chExt cx="1228680" cy="1293480"/>
            </a:xfrm>
          </p:grpSpPr>
          <p:graphicFrame>
            <p:nvGraphicFramePr>
              <p:cNvPr id="593" name=""/>
              <p:cNvGraphicFramePr/>
              <p:nvPr/>
            </p:nvGraphicFramePr>
            <p:xfrm>
              <a:off x="3790800" y="3063600"/>
              <a:ext cx="1062000" cy="31824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594" name="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3790800" y="3063600"/>
                        <a:ext cx="1062000" cy="318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95" name=""/>
              <p:cNvGraphicFramePr/>
              <p:nvPr/>
            </p:nvGraphicFramePr>
            <p:xfrm>
              <a:off x="3916800" y="3949200"/>
              <a:ext cx="774000" cy="40788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596" name="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3916800" y="3949200"/>
                        <a:ext cx="774000" cy="407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97" name=""/>
              <p:cNvGraphicFramePr/>
              <p:nvPr/>
            </p:nvGraphicFramePr>
            <p:xfrm>
              <a:off x="3624120" y="3381840"/>
              <a:ext cx="1194840" cy="47016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598" name="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3624120" y="3381840"/>
                        <a:ext cx="1194840" cy="470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599" name=""/>
          <p:cNvSpPr/>
          <p:nvPr/>
        </p:nvSpPr>
        <p:spPr>
          <a:xfrm>
            <a:off x="4362480" y="2133720"/>
            <a:ext cx="19080" cy="3999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4000" y="155520"/>
            <a:ext cx="8280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Book Antiqua"/>
              </a:rPr>
              <a:t>INCOTERM: DAP –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Delivered At Place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0" lang="es-ES_tradnl" sz="2600" spc="-1" strike="noStrike">
                <a:solidFill>
                  <a:srgbClr val="000000"/>
                </a:solidFill>
                <a:latin typeface="Book Antiqua"/>
              </a:rPr>
              <a:t>Entrega en lugar convenido </a:t>
            </a:r>
            <a:br>
              <a:rPr sz="2600"/>
            </a:br>
            <a:r>
              <a:rPr b="0" lang="es-ES_tradnl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684360" y="1628640"/>
          <a:ext cx="8280360" cy="4464000"/>
        </p:xfrm>
        <a:graphic>
          <a:graphicData uri="http://schemas.openxmlformats.org/drawingml/2006/table">
            <a:tbl>
              <a:tblPr/>
              <a:tblGrid>
                <a:gridCol w="2054880"/>
                <a:gridCol w="3078000"/>
                <a:gridCol w="3147480"/>
              </a:tblGrid>
              <a:tr h="813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po de 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Vende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Compr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6500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odo tipo de 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legir y contratar el transporte, pagar el flete y soportar todos los riesgos del viaje hasta el lugar convenido de desti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fectuar el despacho de exportación de la mercanc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oporcional la factura comerci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sumir los gastos y riesgos, en el momento y en el punto de descarg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agar los impuestos de importacion aplicabl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581832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DAT – </a:t>
            </a:r>
            <a:r>
              <a:rPr b="0" lang="de-DE" sz="2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Delivered at Terminal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Book Antiqua"/>
              </a:rPr>
              <a:t>TRANSFERENCIA DE LA RESPONSABILIDAD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937200" y="4713120"/>
            <a:ext cx="20466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despach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Impor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434880" y="2620800"/>
          <a:ext cx="1225800" cy="8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2620800"/>
                    <a:ext cx="122580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"/>
          <p:cNvSpPr/>
          <p:nvPr/>
        </p:nvSpPr>
        <p:spPr>
          <a:xfrm>
            <a:off x="6900840" y="4660920"/>
            <a:ext cx="1650960" cy="1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1822320" y="2895480"/>
          <a:ext cx="787680" cy="6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2320" y="2895480"/>
                    <a:ext cx="7876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6351480" y="2890800"/>
          <a:ext cx="763560" cy="57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51480" y="2890800"/>
                    <a:ext cx="76356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7302600" y="2668680"/>
          <a:ext cx="1149120" cy="83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02600" y="2668680"/>
                    <a:ext cx="114912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3" name=""/>
          <p:cNvGrpSpPr/>
          <p:nvPr/>
        </p:nvGrpSpPr>
        <p:grpSpPr>
          <a:xfrm>
            <a:off x="2801880" y="2892600"/>
            <a:ext cx="592200" cy="621720"/>
            <a:chOff x="2801880" y="2892600"/>
            <a:chExt cx="592200" cy="621720"/>
          </a:xfrm>
        </p:grpSpPr>
        <p:graphicFrame>
          <p:nvGraphicFramePr>
            <p:cNvPr id="614" name=""/>
            <p:cNvGraphicFramePr/>
            <p:nvPr/>
          </p:nvGraphicFramePr>
          <p:xfrm>
            <a:off x="2954520" y="2892600"/>
            <a:ext cx="287280" cy="393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1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954520" y="289260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6" name=""/>
            <p:cNvGraphicFramePr/>
            <p:nvPr/>
          </p:nvGraphicFramePr>
          <p:xfrm>
            <a:off x="3106800" y="3120840"/>
            <a:ext cx="287280" cy="393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1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106800" y="312084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8" name=""/>
            <p:cNvGraphicFramePr/>
            <p:nvPr/>
          </p:nvGraphicFramePr>
          <p:xfrm>
            <a:off x="2801880" y="3120840"/>
            <a:ext cx="287280" cy="393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1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01880" y="312084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20" name=""/>
          <p:cNvGrpSpPr/>
          <p:nvPr/>
        </p:nvGrpSpPr>
        <p:grpSpPr>
          <a:xfrm>
            <a:off x="5342040" y="2849400"/>
            <a:ext cx="591840" cy="642960"/>
            <a:chOff x="5342040" y="2849400"/>
            <a:chExt cx="591840" cy="642960"/>
          </a:xfrm>
        </p:grpSpPr>
        <p:graphicFrame>
          <p:nvGraphicFramePr>
            <p:cNvPr id="621" name=""/>
            <p:cNvGraphicFramePr/>
            <p:nvPr/>
          </p:nvGraphicFramePr>
          <p:xfrm>
            <a:off x="5479920" y="2849400"/>
            <a:ext cx="303120" cy="414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2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479920" y="2849400"/>
                      <a:ext cx="30312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3" name=""/>
            <p:cNvGraphicFramePr/>
            <p:nvPr/>
          </p:nvGraphicFramePr>
          <p:xfrm>
            <a:off x="5632560" y="3078000"/>
            <a:ext cx="301320" cy="41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2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632560" y="3078000"/>
                      <a:ext cx="30132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5" name=""/>
            <p:cNvGraphicFramePr/>
            <p:nvPr/>
          </p:nvGraphicFramePr>
          <p:xfrm>
            <a:off x="5342040" y="3085920"/>
            <a:ext cx="287280" cy="393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26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342040" y="308592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7" name=""/>
          <p:cNvSpPr/>
          <p:nvPr/>
        </p:nvSpPr>
        <p:spPr>
          <a:xfrm>
            <a:off x="430200" y="360684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315560" y="3666960"/>
            <a:ext cx="1456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6912000" y="39873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2800440" y="3618000"/>
            <a:ext cx="685800" cy="533160"/>
            <a:chOff x="2800440" y="3618000"/>
            <a:chExt cx="685800" cy="533160"/>
          </a:xfrm>
        </p:grpSpPr>
        <p:sp>
          <p:nvSpPr>
            <p:cNvPr id="631" name=""/>
            <p:cNvSpPr/>
            <p:nvPr/>
          </p:nvSpPr>
          <p:spPr>
            <a:xfrm>
              <a:off x="2800440" y="36180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486240" y="36180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5275440" y="3581280"/>
            <a:ext cx="685800" cy="533520"/>
            <a:chOff x="5275440" y="3581280"/>
            <a:chExt cx="685800" cy="533520"/>
          </a:xfrm>
        </p:grpSpPr>
        <p:sp>
          <p:nvSpPr>
            <p:cNvPr id="634" name=""/>
            <p:cNvSpPr/>
            <p:nvPr/>
          </p:nvSpPr>
          <p:spPr>
            <a:xfrm>
              <a:off x="5275440" y="35812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275440" y="35812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2553840" y="3659040"/>
            <a:ext cx="936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gar 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e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299200" y="3611520"/>
            <a:ext cx="10731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gar de entrega Paí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865160" y="230976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231156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933720" y="2239920"/>
            <a:ext cx="1155600" cy="2191680"/>
            <a:chOff x="3933720" y="2239920"/>
            <a:chExt cx="1155600" cy="2191680"/>
          </a:xfrm>
        </p:grpSpPr>
        <p:graphicFrame>
          <p:nvGraphicFramePr>
            <p:cNvPr id="641" name=""/>
            <p:cNvGraphicFramePr/>
            <p:nvPr/>
          </p:nvGraphicFramePr>
          <p:xfrm>
            <a:off x="4153680" y="2239920"/>
            <a:ext cx="929880" cy="6764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4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153680" y="2239920"/>
                      <a:ext cx="929880" cy="6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43" name=""/>
            <p:cNvGrpSpPr/>
            <p:nvPr/>
          </p:nvGrpSpPr>
          <p:grpSpPr>
            <a:xfrm>
              <a:off x="3933720" y="2977920"/>
              <a:ext cx="1155600" cy="1453680"/>
              <a:chOff x="3933720" y="2977920"/>
              <a:chExt cx="1155600" cy="1453680"/>
            </a:xfrm>
          </p:grpSpPr>
          <p:graphicFrame>
            <p:nvGraphicFramePr>
              <p:cNvPr id="644" name=""/>
              <p:cNvGraphicFramePr/>
              <p:nvPr/>
            </p:nvGraphicFramePr>
            <p:xfrm>
              <a:off x="4090680" y="2977920"/>
              <a:ext cx="998640" cy="35784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645" name="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4090680" y="2977920"/>
                        <a:ext cx="998640" cy="357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46" name=""/>
              <p:cNvGraphicFramePr/>
              <p:nvPr/>
            </p:nvGraphicFramePr>
            <p:xfrm>
              <a:off x="4209120" y="3973320"/>
              <a:ext cx="727920" cy="45828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647" name="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4209120" y="3973320"/>
                        <a:ext cx="727920" cy="45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48" name=""/>
              <p:cNvGraphicFramePr/>
              <p:nvPr/>
            </p:nvGraphicFramePr>
            <p:xfrm>
              <a:off x="3933720" y="3335760"/>
              <a:ext cx="1123920" cy="52848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649" name="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3933720" y="3335760"/>
                        <a:ext cx="1123920" cy="528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650" name=""/>
          <p:cNvSpPr/>
          <p:nvPr/>
        </p:nvSpPr>
        <p:spPr>
          <a:xfrm flipV="1">
            <a:off x="6610320" y="39891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352440" y="4673520"/>
            <a:ext cx="6269040" cy="129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47480" y="4700520"/>
            <a:ext cx="603936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y Responsabilidad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tar Transporte y Seguro hasta punto de des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egar después de cruzar la frontera sin Despacho de Im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despacho de Ex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218280" y="20178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823080" y="692280"/>
            <a:ext cx="23209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00ac0"/>
                </a:solidFill>
                <a:uFillTx/>
                <a:latin typeface="Arial"/>
              </a:rPr>
              <a:t>Precio Mercancí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Incluye Fletes y Segu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Hasta lugar convenido país de destin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y Despacho de Export</a:t>
            </a:r>
            <a:r>
              <a:rPr b="0" lang="en-US" sz="16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07800" y="2004840"/>
            <a:ext cx="59104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608120" y="1544760"/>
            <a:ext cx="323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200ac0"/>
                </a:solidFill>
                <a:latin typeface="Arial"/>
              </a:rPr>
              <a:t>Costos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791320" y="2362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4000" y="155160"/>
            <a:ext cx="828036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INCOTERM: DDP –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vered</a:t>
            </a:r>
            <a:r>
              <a:rPr b="0" lang="es-ES_tradnl" sz="2600" spc="-1" strike="noStrike">
                <a:solidFill>
                  <a:srgbClr val="ffffe1"/>
                </a:solidFill>
                <a:latin typeface="Times New Roman"/>
                <a:ea typeface="Times New Roman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d-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Entrega en destino con derechos pagados (indicando el lugar de destino)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24000" y="1628640"/>
          <a:ext cx="8424720" cy="5362560"/>
        </p:xfrm>
        <a:graphic>
          <a:graphicData uri="http://schemas.openxmlformats.org/drawingml/2006/table">
            <a:tbl>
              <a:tblPr/>
              <a:tblGrid>
                <a:gridCol w="1584000"/>
                <a:gridCol w="4969080"/>
                <a:gridCol w="187164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po de 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Vende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Compr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43628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odo tipo de 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ntregar la mercancía, por su cuenta,  a disposición del Comprador, en el lugar de destino convenido en el país del Importador, incluidas las maniobras de descarg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fectuar el despacho de exportación e importación de la mercanc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epresenta la máxima obligación para el vendedo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oporcional factura comerci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ealizas los despachos de importacion en el lugar de destino incluyendo los impues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oportar los riesgos y gastos que ocurran después de recibida la mercancía en el lugar conveni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5457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DDP –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Delivered Duty Paid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TRANSFERENCIA DE LA RESPONSABILIDAD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661" name=""/>
          <p:cNvGraphicFramePr/>
          <p:nvPr/>
        </p:nvGraphicFramePr>
        <p:xfrm>
          <a:off x="361800" y="2884320"/>
          <a:ext cx="1150920" cy="8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2884320"/>
                    <a:ext cx="115092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"/>
          <p:cNvGraphicFramePr/>
          <p:nvPr/>
        </p:nvGraphicFramePr>
        <p:xfrm>
          <a:off x="1612800" y="3121200"/>
          <a:ext cx="83844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2800" y="3121200"/>
                    <a:ext cx="8384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"/>
          <p:cNvGraphicFramePr/>
          <p:nvPr/>
        </p:nvGraphicFramePr>
        <p:xfrm>
          <a:off x="6453360" y="3152880"/>
          <a:ext cx="664920" cy="5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53360" y="3152880"/>
                    <a:ext cx="66492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7351560" y="2943360"/>
          <a:ext cx="1100160" cy="77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1560" y="2943360"/>
                    <a:ext cx="11001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9" name=""/>
          <p:cNvGrpSpPr/>
          <p:nvPr/>
        </p:nvGrpSpPr>
        <p:grpSpPr>
          <a:xfrm>
            <a:off x="2643120" y="3067200"/>
            <a:ext cx="591840" cy="621720"/>
            <a:chOff x="2643120" y="3067200"/>
            <a:chExt cx="591840" cy="621720"/>
          </a:xfrm>
        </p:grpSpPr>
        <p:graphicFrame>
          <p:nvGraphicFramePr>
            <p:cNvPr id="670" name=""/>
            <p:cNvGraphicFramePr/>
            <p:nvPr/>
          </p:nvGraphicFramePr>
          <p:xfrm>
            <a:off x="2795400" y="3067200"/>
            <a:ext cx="287280" cy="393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7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795400" y="306720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2" name=""/>
            <p:cNvGraphicFramePr/>
            <p:nvPr/>
          </p:nvGraphicFramePr>
          <p:xfrm>
            <a:off x="2947680" y="3295440"/>
            <a:ext cx="287280" cy="393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7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947680" y="329544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4" name=""/>
            <p:cNvGraphicFramePr/>
            <p:nvPr/>
          </p:nvGraphicFramePr>
          <p:xfrm>
            <a:off x="2643120" y="3295440"/>
            <a:ext cx="287280" cy="393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643120" y="329544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76" name=""/>
          <p:cNvGrpSpPr/>
          <p:nvPr/>
        </p:nvGrpSpPr>
        <p:grpSpPr>
          <a:xfrm>
            <a:off x="5551560" y="3035160"/>
            <a:ext cx="592200" cy="642960"/>
            <a:chOff x="5551560" y="3035160"/>
            <a:chExt cx="592200" cy="642960"/>
          </a:xfrm>
        </p:grpSpPr>
        <p:graphicFrame>
          <p:nvGraphicFramePr>
            <p:cNvPr id="677" name=""/>
            <p:cNvGraphicFramePr/>
            <p:nvPr/>
          </p:nvGraphicFramePr>
          <p:xfrm>
            <a:off x="5689440" y="3035160"/>
            <a:ext cx="303480" cy="414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7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689440" y="3035160"/>
                      <a:ext cx="3034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9" name=""/>
            <p:cNvGraphicFramePr/>
            <p:nvPr/>
          </p:nvGraphicFramePr>
          <p:xfrm>
            <a:off x="5842080" y="3263760"/>
            <a:ext cx="301680" cy="41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8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42080" y="3263760"/>
                      <a:ext cx="3016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1" name=""/>
            <p:cNvGraphicFramePr/>
            <p:nvPr/>
          </p:nvGraphicFramePr>
          <p:xfrm>
            <a:off x="5551560" y="3271680"/>
            <a:ext cx="287280" cy="393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82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551560" y="327168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83" name=""/>
          <p:cNvSpPr/>
          <p:nvPr/>
        </p:nvSpPr>
        <p:spPr>
          <a:xfrm>
            <a:off x="331560" y="38196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278840" y="3817800"/>
            <a:ext cx="1456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2687760" y="3794040"/>
            <a:ext cx="685800" cy="533520"/>
            <a:chOff x="2687760" y="3794040"/>
            <a:chExt cx="685800" cy="533520"/>
          </a:xfrm>
        </p:grpSpPr>
        <p:sp>
          <p:nvSpPr>
            <p:cNvPr id="686" name=""/>
            <p:cNvSpPr/>
            <p:nvPr/>
          </p:nvSpPr>
          <p:spPr>
            <a:xfrm>
              <a:off x="2687760" y="3794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373560" y="379404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5495760" y="3794040"/>
            <a:ext cx="685800" cy="533520"/>
            <a:chOff x="5495760" y="3794040"/>
            <a:chExt cx="685800" cy="533520"/>
          </a:xfrm>
        </p:grpSpPr>
        <p:sp>
          <p:nvSpPr>
            <p:cNvPr id="689" name=""/>
            <p:cNvSpPr/>
            <p:nvPr/>
          </p:nvSpPr>
          <p:spPr>
            <a:xfrm>
              <a:off x="5495760" y="379404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495760" y="3794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2503800" y="3797280"/>
            <a:ext cx="88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gar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e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473800" y="3773520"/>
            <a:ext cx="1141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gar de entrega  País de 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654200" y="252576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394320" y="254952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4005360" y="2573280"/>
            <a:ext cx="1228320" cy="2069640"/>
            <a:chOff x="4005360" y="2573280"/>
            <a:chExt cx="1228320" cy="2069640"/>
          </a:xfrm>
        </p:grpSpPr>
        <p:graphicFrame>
          <p:nvGraphicFramePr>
            <p:cNvPr id="696" name=""/>
            <p:cNvGraphicFramePr/>
            <p:nvPr/>
          </p:nvGraphicFramePr>
          <p:xfrm>
            <a:off x="4122000" y="2573280"/>
            <a:ext cx="1105560" cy="7174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97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122000" y="2573280"/>
                      <a:ext cx="1105560" cy="71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98" name=""/>
            <p:cNvGrpSpPr/>
            <p:nvPr/>
          </p:nvGrpSpPr>
          <p:grpSpPr>
            <a:xfrm>
              <a:off x="4005360" y="3349440"/>
              <a:ext cx="1228320" cy="1293480"/>
              <a:chOff x="4005360" y="3349440"/>
              <a:chExt cx="1228320" cy="1293480"/>
            </a:xfrm>
          </p:grpSpPr>
          <p:graphicFrame>
            <p:nvGraphicFramePr>
              <p:cNvPr id="699" name=""/>
              <p:cNvGraphicFramePr/>
              <p:nvPr/>
            </p:nvGraphicFramePr>
            <p:xfrm>
              <a:off x="4172040" y="3349440"/>
              <a:ext cx="1061640" cy="31824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700" name="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4172040" y="3349440"/>
                        <a:ext cx="1061640" cy="318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01" name=""/>
              <p:cNvGraphicFramePr/>
              <p:nvPr/>
            </p:nvGraphicFramePr>
            <p:xfrm>
              <a:off x="4298040" y="4235040"/>
              <a:ext cx="774000" cy="40788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702" name="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4298040" y="4235040"/>
                        <a:ext cx="774000" cy="407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03" name=""/>
              <p:cNvGraphicFramePr/>
              <p:nvPr/>
            </p:nvGraphicFramePr>
            <p:xfrm>
              <a:off x="4005360" y="3667680"/>
              <a:ext cx="1194480" cy="47016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704" name="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4005360" y="3667680"/>
                        <a:ext cx="1194480" cy="470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705" name=""/>
          <p:cNvSpPr/>
          <p:nvPr/>
        </p:nvSpPr>
        <p:spPr>
          <a:xfrm flipV="1">
            <a:off x="8035920" y="427644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26880" y="4973760"/>
            <a:ext cx="7723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082880" y="4992840"/>
            <a:ext cx="679860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y Responsabilidad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tar Transporte y Seguro hasta punto de des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egar en punto convenido en país de desti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despacho de Export. y Despacho de Import. en país de des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8271000" y="2394000"/>
            <a:ext cx="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957440" y="2131920"/>
            <a:ext cx="60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496200" y="692280"/>
            <a:ext cx="264780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00ac0"/>
                </a:solidFill>
                <a:uFillTx/>
                <a:latin typeface="Arial"/>
              </a:rPr>
              <a:t>Precio Mercancí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Incluye Fletes y Segu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hasta lugar convenido país de destino, Despacho de Export y Despacho de Im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262080" y="2280960"/>
            <a:ext cx="7751520" cy="3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098800" y="1725480"/>
            <a:ext cx="33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200ac0"/>
                </a:solidFill>
                <a:latin typeface="Arial"/>
              </a:rPr>
              <a:t>Costos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e1"/>
                </a:solidFill>
                <a:latin typeface="Times New Roman"/>
              </a:rPr>
              <a:t>Agend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001880" y="1581120"/>
            <a:ext cx="703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00ac0"/>
                </a:solidFill>
                <a:latin typeface="Book Antiqua"/>
              </a:rPr>
              <a:t>V. Modo de transporte e INCOTERM apropi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800" spc="-1" strike="noStrike">
                <a:solidFill>
                  <a:srgbClr val="ffffe1"/>
                </a:solidFill>
                <a:latin typeface="Times New Roman"/>
              </a:rPr>
              <a:t>Modo de transporte e INCOTERM apropiado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26920" y="333000"/>
            <a:ext cx="750600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Para los Incoterms 2010 se hacen dos clasificaciones segun el medio de transpor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13800" indent="-28440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5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Book Antiqua"/>
              </a:rPr>
              <a:t>Cualquier medio de transpor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13800" indent="-28440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5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Book Antiqua"/>
              </a:rPr>
              <a:t>Transporte mariti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611280" y="2637000"/>
          <a:ext cx="8353440" cy="4031640"/>
        </p:xfrm>
        <a:graphic>
          <a:graphicData uri="http://schemas.openxmlformats.org/drawingml/2006/table">
            <a:tbl>
              <a:tblPr/>
              <a:tblGrid>
                <a:gridCol w="1628280"/>
                <a:gridCol w="1263240"/>
                <a:gridCol w="5461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ncote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escripció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ualquier tipo de transporte, incluído el multimod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6600" indent="-666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X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6600" indent="-666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6600" indent="-666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6600" indent="-666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6600" indent="-666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6600" indent="-666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6600" indent="-666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Book Antiqu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n Fábrica (... lugar conveni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Book Antiqu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ibre Transportista (... lugar conveni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Book Antiqu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ransporte pagado hasta (... lugar de destino conveni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Book Antiqu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ransporte y seguro pagados hasta (... lugar de destino conveni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Book Antiqu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ntrega en frontera (... lugar conveni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Book Antiqu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ntregada derechos no pagados (... lugar de destino conveni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Book Antiqu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ntregada derechos pagados (... lugar de destino conveni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Book Antiqua"/>
              </a:rPr>
              <a:t>INCOTERM: EXW – Ex Works</a:t>
            </a:r>
            <a:br>
              <a:rPr sz="2600"/>
            </a:br>
            <a:r>
              <a:rPr b="1" lang="es-ES" sz="2600" spc="-1" strike="noStrike">
                <a:solidFill>
                  <a:srgbClr val="000000"/>
                </a:solidFill>
                <a:latin typeface="Book Antiqua"/>
              </a:rPr>
              <a:t>En fábrica (indicando lugar convenido)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11280" y="1495440"/>
          <a:ext cx="8353440" cy="4753080"/>
        </p:xfrm>
        <a:graphic>
          <a:graphicData uri="http://schemas.openxmlformats.org/drawingml/2006/table">
            <a:tbl>
              <a:tblPr/>
              <a:tblGrid>
                <a:gridCol w="1542960"/>
                <a:gridCol w="3281400"/>
                <a:gridCol w="352908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po de 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Vende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Compr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4673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odo tipo de 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oner la mercancía a disposición del comprador en el establecimiento del vendedor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ste término representa la mínima obligación para el vende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mbalar la mercanc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oporcionar la factura comer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legir el modo de transport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oportar el costo del riesgo inherente al transporte, incluyendo seguimiento en tránsito, reclamaciones, etc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fectuar el despacho de exportación de la mercanc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argar la mercancía en el medio de transporte provisto por el comprado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900000" y="1916280"/>
          <a:ext cx="7979040" cy="2955600"/>
        </p:xfrm>
        <a:graphic>
          <a:graphicData uri="http://schemas.openxmlformats.org/drawingml/2006/table">
            <a:tbl>
              <a:tblPr/>
              <a:tblGrid>
                <a:gridCol w="1554120"/>
                <a:gridCol w="1311480"/>
                <a:gridCol w="5113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ncote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escripció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ransporte maríti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F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I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Book Antiqu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ibre al costado del buque (... puerto de carga conveni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Book Antiqu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ibre a bordo (... puerto de carga conveni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Book Antiqu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sto y flete (... puerto de destino conveni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Book Antiqu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sto, seguro y flete (... puerto de destino conveni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4378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EXW – Ex Work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TRANSFERENCIA DE LA RESPONSABILIDAD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58920" y="2959200"/>
          <a:ext cx="11700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" y="2959200"/>
                    <a:ext cx="1170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 flipV="1">
            <a:off x="990720" y="4678200"/>
            <a:ext cx="7269120" cy="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21080" y="3281400"/>
          <a:ext cx="641160" cy="55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1080" y="3281400"/>
                    <a:ext cx="6411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737400" y="3287880"/>
          <a:ext cx="665280" cy="56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7400" y="3287880"/>
                    <a:ext cx="6652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7459560" y="2995560"/>
          <a:ext cx="1255680" cy="87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59560" y="2995560"/>
                    <a:ext cx="125568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379680" y="4006800"/>
          <a:ext cx="120996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79680" y="4006800"/>
                    <a:ext cx="12099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759200" y="3984480"/>
          <a:ext cx="905040" cy="49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59200" y="3984480"/>
                    <a:ext cx="90504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6154560" y="3260880"/>
          <a:ext cx="303480" cy="414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54560" y="3260880"/>
                    <a:ext cx="3034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2" name=""/>
          <p:cNvGrpSpPr/>
          <p:nvPr/>
        </p:nvGrpSpPr>
        <p:grpSpPr>
          <a:xfrm>
            <a:off x="662040" y="2660760"/>
            <a:ext cx="609480" cy="456840"/>
            <a:chOff x="662040" y="2660760"/>
            <a:chExt cx="609480" cy="456840"/>
          </a:xfrm>
        </p:grpSpPr>
        <p:graphicFrame>
          <p:nvGraphicFramePr>
            <p:cNvPr id="123" name=""/>
            <p:cNvGraphicFramePr/>
            <p:nvPr/>
          </p:nvGraphicFramePr>
          <p:xfrm>
            <a:off x="831960" y="2660760"/>
            <a:ext cx="287280" cy="2833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831960" y="2660760"/>
                      <a:ext cx="287280" cy="28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5" name=""/>
            <p:cNvGraphicFramePr/>
            <p:nvPr/>
          </p:nvGraphicFramePr>
          <p:xfrm>
            <a:off x="984240" y="2825280"/>
            <a:ext cx="287280" cy="2833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984240" y="2825280"/>
                      <a:ext cx="287280" cy="28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" name=""/>
            <p:cNvGraphicFramePr/>
            <p:nvPr/>
          </p:nvGraphicFramePr>
          <p:xfrm>
            <a:off x="662040" y="2834280"/>
            <a:ext cx="287280" cy="2833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2040" y="2834280"/>
                      <a:ext cx="287280" cy="28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9" name=""/>
          <p:cNvGraphicFramePr/>
          <p:nvPr/>
        </p:nvGraphicFramePr>
        <p:xfrm>
          <a:off x="6308640" y="3465360"/>
          <a:ext cx="301680" cy="414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08640" y="3465360"/>
                    <a:ext cx="3016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948280" y="3473280"/>
          <a:ext cx="287280" cy="393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948280" y="3473280"/>
                    <a:ext cx="2872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635360" y="2949480"/>
          <a:ext cx="1081080" cy="998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635360" y="2949480"/>
                    <a:ext cx="10810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407160" y="4653000"/>
            <a:ext cx="9015480" cy="16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iesgo y Responsabilidad del Comp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coger la mercancía en el local del vende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ntratar Transporte y Seguro de la mercancía hasta des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fectuar el despacho de Exportación e Impor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" y="385776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94760" y="3860640"/>
            <a:ext cx="1456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990720" y="425088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727280" y="3681360"/>
            <a:ext cx="685800" cy="533160"/>
            <a:chOff x="1727280" y="3681360"/>
            <a:chExt cx="685800" cy="533160"/>
          </a:xfrm>
        </p:grpSpPr>
        <p:sp>
          <p:nvSpPr>
            <p:cNvPr id="140" name=""/>
            <p:cNvSpPr/>
            <p:nvPr/>
          </p:nvSpPr>
          <p:spPr>
            <a:xfrm>
              <a:off x="1727280" y="36813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13080" y="3681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965920" y="3959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65920" y="39607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47280" y="3705120"/>
            <a:ext cx="936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gar 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e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88600" y="4083120"/>
            <a:ext cx="837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í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40160" y="2749680"/>
            <a:ext cx="7920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97440" y="272412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300480" y="3227400"/>
          <a:ext cx="1359000" cy="771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300480" y="3227400"/>
                    <a:ext cx="13590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643280" y="1484280"/>
            <a:ext cx="23702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00ac0"/>
                </a:solidFill>
                <a:uFillTx/>
                <a:latin typeface="Book Antiqua"/>
              </a:rPr>
              <a:t>Precio Mercancí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0ac0"/>
                </a:solidFill>
                <a:latin typeface="Book Antiqua"/>
              </a:rPr>
              <a:t>No Incluye Flet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0ac0"/>
                </a:solidFill>
                <a:latin typeface="Book Antiqua"/>
              </a:rPr>
              <a:t>Seguros, Maniobras 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0ac0"/>
                </a:solidFill>
                <a:latin typeface="Book Antiqua"/>
              </a:rPr>
              <a:t>Despa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81000" y="198756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8240" y="1662120"/>
            <a:ext cx="66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e1"/>
                </a:solidFill>
                <a:latin typeface="Times New Roman"/>
              </a:rPr>
              <a:t>GRUPO 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99640" y="1197000"/>
            <a:ext cx="750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600" spc="-1" strike="noStrike">
                <a:solidFill>
                  <a:srgbClr val="663300"/>
                </a:solidFill>
                <a:latin typeface="Book Antiqua"/>
              </a:rPr>
              <a:t>Características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35b1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600" spc="-1" strike="noStrike">
                <a:solidFill>
                  <a:srgbClr val="663300"/>
                </a:solidFill>
                <a:latin typeface="Book Antiqua"/>
              </a:rPr>
              <a:t>  </a:t>
            </a:r>
            <a:r>
              <a:rPr b="0" lang="es-SV" sz="2600" spc="-1" strike="noStrike">
                <a:solidFill>
                  <a:srgbClr val="663300"/>
                </a:solidFill>
                <a:latin typeface="Book Antiqua"/>
              </a:rPr>
              <a:t>Entrega en Punto de Embar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35b1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600" spc="-1" strike="noStrike">
                <a:solidFill>
                  <a:srgbClr val="663300"/>
                </a:solidFill>
                <a:latin typeface="Book Antiqua"/>
              </a:rPr>
              <a:t> </a:t>
            </a:r>
            <a:r>
              <a:rPr b="0" lang="es-SV" sz="2600" spc="-1" strike="noStrike">
                <a:solidFill>
                  <a:srgbClr val="663300"/>
                </a:solidFill>
                <a:latin typeface="Book Antiqua"/>
              </a:rPr>
              <a:t>Comprador designa y paga el Transpor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35b1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600" spc="-1" strike="noStrike">
                <a:solidFill>
                  <a:srgbClr val="663300"/>
                </a:solidFill>
                <a:latin typeface="Book Antiqua"/>
              </a:rPr>
              <a:t> </a:t>
            </a:r>
            <a:r>
              <a:rPr b="0" lang="es-SV" sz="2600" spc="-1" strike="noStrike">
                <a:solidFill>
                  <a:srgbClr val="663300"/>
                </a:solidFill>
                <a:latin typeface="Book Antiqua"/>
              </a:rPr>
              <a:t>Comprador asume el riesgo del transporte      princip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37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Book Antiqua"/>
              </a:rPr>
              <a:t>INCOTERM: FCA – Free Carrier</a:t>
            </a:r>
            <a:br>
              <a:rPr sz="2600"/>
            </a:br>
            <a:r>
              <a:rPr b="1" lang="es-ES" sz="2600" spc="-1" strike="noStrike">
                <a:solidFill>
                  <a:srgbClr val="000000"/>
                </a:solidFill>
                <a:latin typeface="Book Antiqua"/>
              </a:rPr>
              <a:t>Libre transportista (indicando lugar convenido)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62040" y="2205000"/>
          <a:ext cx="8481960" cy="4319280"/>
        </p:xfrm>
        <a:graphic>
          <a:graphicData uri="http://schemas.openxmlformats.org/drawingml/2006/table">
            <a:tbl>
              <a:tblPr/>
              <a:tblGrid>
                <a:gridCol w="2104920"/>
                <a:gridCol w="3129480"/>
                <a:gridCol w="3247560"/>
              </a:tblGrid>
              <a:tr h="871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po de 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Vende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Compr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4480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odo tipo de transport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xcepto marítim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SV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ntregar la mercancía al transportista designado por el Comprador en el lugar conveni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SV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fectuar el despacho de exportación de la mercanc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SV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oporcionar la factura comerci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SV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legir modo de transporte y transportist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SV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oportar gastos y riesgos de la mercancía desde que el transportista se hace cargo de ella en el lugar conveni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277560"/>
            <a:ext cx="55450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Book Antiqua"/>
              </a:rPr>
              <a:t>FCA - </a:t>
            </a:r>
            <a:r>
              <a:rPr b="1" lang="es-ES" sz="2600" spc="-1" strike="noStrike">
                <a:solidFill>
                  <a:srgbClr val="000000"/>
                </a:solidFill>
                <a:latin typeface="Book Antiqua"/>
              </a:rPr>
              <a:t>Free Carrier</a:t>
            </a:r>
            <a:r>
              <a:rPr b="1" lang="es-ES_tradnl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Book Antiqua"/>
              </a:rPr>
              <a:t>TRANSFERENCIA DE LA RESPONSABILIDAD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73160" y="2471760"/>
          <a:ext cx="949320" cy="8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2471760"/>
                    <a:ext cx="94932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2233440" y="4313160"/>
            <a:ext cx="6147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297160" y="2844720"/>
          <a:ext cx="70020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7160" y="2844720"/>
                    <a:ext cx="7002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6611760" y="2816280"/>
          <a:ext cx="630360" cy="55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11760" y="2816280"/>
                    <a:ext cx="6303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7343640" y="2579760"/>
          <a:ext cx="1094040" cy="79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43640" y="2579760"/>
                    <a:ext cx="10940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635360" y="3433680"/>
          <a:ext cx="1059120" cy="37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35360" y="3433680"/>
                    <a:ext cx="10591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782880" y="3473280"/>
          <a:ext cx="752760" cy="405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82880" y="3473280"/>
                    <a:ext cx="75276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3078000" y="2666880"/>
            <a:ext cx="556920" cy="704520"/>
            <a:chOff x="3078000" y="2666880"/>
            <a:chExt cx="556920" cy="704520"/>
          </a:xfrm>
        </p:grpSpPr>
        <p:graphicFrame>
          <p:nvGraphicFramePr>
            <p:cNvPr id="172" name=""/>
            <p:cNvGraphicFramePr/>
            <p:nvPr/>
          </p:nvGraphicFramePr>
          <p:xfrm>
            <a:off x="3276360" y="2666880"/>
            <a:ext cx="270360" cy="363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276360" y="2666880"/>
                      <a:ext cx="270360" cy="36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4" name=""/>
            <p:cNvGraphicFramePr/>
            <p:nvPr/>
          </p:nvGraphicFramePr>
          <p:xfrm>
            <a:off x="3364560" y="3007440"/>
            <a:ext cx="270360" cy="363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364560" y="3007440"/>
                      <a:ext cx="270360" cy="36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6" name=""/>
            <p:cNvGraphicFramePr/>
            <p:nvPr/>
          </p:nvGraphicFramePr>
          <p:xfrm>
            <a:off x="3078000" y="3007440"/>
            <a:ext cx="270360" cy="363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078000" y="3007440"/>
                      <a:ext cx="270360" cy="36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8" name=""/>
          <p:cNvGraphicFramePr/>
          <p:nvPr/>
        </p:nvGraphicFramePr>
        <p:xfrm>
          <a:off x="4678200" y="2610000"/>
          <a:ext cx="1116000" cy="765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78200" y="2610000"/>
                    <a:ext cx="111600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2673360" y="4402080"/>
            <a:ext cx="594504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iesgo y Responsabilidad del 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ontratar Transporte y Seguro de la mercancía hasta dest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fectuar el despacho de Impor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42760" y="33163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9240" y="3446640"/>
            <a:ext cx="1456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220840" y="3661920"/>
            <a:ext cx="0" cy="662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63720" y="34909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38360" y="348948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75280" y="3500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77080" y="3500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80760" y="3521160"/>
            <a:ext cx="100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ert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bar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0200" y="3517920"/>
            <a:ext cx="955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ert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51080" y="2274840"/>
            <a:ext cx="7920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695760" y="2814480"/>
          <a:ext cx="946080" cy="623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695760" y="2814480"/>
                    <a:ext cx="9460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6659640" y="404640"/>
            <a:ext cx="248436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00ac0"/>
                </a:solidFill>
                <a:uFillTx/>
                <a:latin typeface="Arial"/>
              </a:rPr>
              <a:t>Precio Mercancí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0ac0"/>
                </a:solidFill>
                <a:latin typeface="Arial"/>
              </a:rPr>
              <a:t>Puede o No Incluir Fletes, Segur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0ac0"/>
                </a:solidFill>
                <a:latin typeface="Arial"/>
              </a:rPr>
              <a:t>Pero Incluye: Maniobras y  Despacho de Export</a:t>
            </a: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075040" y="3649320"/>
            <a:ext cx="0" cy="68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96840" y="4325760"/>
            <a:ext cx="1086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941720"/>
            <a:ext cx="262260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iesgo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ntregar mercanc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n el 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25520" y="2104560"/>
            <a:ext cx="630540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2480" bIns="-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402000" y="2136600"/>
            <a:ext cx="144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832360" y="2679840"/>
            <a:ext cx="556920" cy="704520"/>
            <a:chOff x="5832360" y="2679840"/>
            <a:chExt cx="556920" cy="704520"/>
          </a:xfrm>
        </p:grpSpPr>
        <p:graphicFrame>
          <p:nvGraphicFramePr>
            <p:cNvPr id="200" name=""/>
            <p:cNvGraphicFramePr/>
            <p:nvPr/>
          </p:nvGraphicFramePr>
          <p:xfrm>
            <a:off x="6030720" y="2679840"/>
            <a:ext cx="270360" cy="363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030720" y="2679840"/>
                      <a:ext cx="270360" cy="36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2" name=""/>
            <p:cNvGraphicFramePr/>
            <p:nvPr/>
          </p:nvGraphicFramePr>
          <p:xfrm>
            <a:off x="6118920" y="3020400"/>
            <a:ext cx="270360" cy="363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118920" y="3020400"/>
                      <a:ext cx="270360" cy="36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4" name=""/>
            <p:cNvGraphicFramePr/>
            <p:nvPr/>
          </p:nvGraphicFramePr>
          <p:xfrm>
            <a:off x="5832360" y="3020400"/>
            <a:ext cx="270360" cy="3639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5832360" y="3020400"/>
                      <a:ext cx="270360" cy="36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6" name=""/>
          <p:cNvSpPr/>
          <p:nvPr/>
        </p:nvSpPr>
        <p:spPr>
          <a:xfrm>
            <a:off x="6550200" y="2363760"/>
            <a:ext cx="7920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92400" y="1805040"/>
            <a:ext cx="59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5120" y="1716120"/>
            <a:ext cx="2819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stos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73520" y="1711440"/>
            <a:ext cx="2819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stos del 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71280" y="155160"/>
            <a:ext cx="80499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Book Antiqua"/>
              </a:rPr>
              <a:t>INCOTERM: FAS – Free Alongside Ship Libre al costado del barco (indicando puerto de embarque convenido)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68360" y="1628640"/>
          <a:ext cx="8410680" cy="4464000"/>
        </p:xfrm>
        <a:graphic>
          <a:graphicData uri="http://schemas.openxmlformats.org/drawingml/2006/table">
            <a:tbl>
              <a:tblPr/>
              <a:tblGrid>
                <a:gridCol w="1593720"/>
                <a:gridCol w="2936880"/>
                <a:gridCol w="3880080"/>
              </a:tblGrid>
              <a:tr h="71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po de 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Vende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Compr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7530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arítim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ntregar la mercancía en el lugar designado por el comprador en el puerto convenido. (Al costado del buque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fectuar el despacho de exportación de la mercanc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oporcionar la factura comer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legir Empresa Naviera y dar nombre del Buque al Vendedo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agar flete y  soportar el riesgo de la mercancía desde que el vendedor la entrega al costado del Buqu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tener licencias para importación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fectuar el despacho de importación de la mercanc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406680" y="4898880"/>
            <a:ext cx="599436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y Responsabilidad del 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ir la mercancía al bu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tar Transporte y Seguro hasta des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el despacho de Impor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23960" y="2738520"/>
          <a:ext cx="1193760" cy="80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2738520"/>
                    <a:ext cx="119376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3416400" y="4862520"/>
            <a:ext cx="5333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162160" y="3025800"/>
          <a:ext cx="67644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62160" y="3025800"/>
                    <a:ext cx="6764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6724800" y="3038400"/>
          <a:ext cx="664920" cy="5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4800" y="3038400"/>
                    <a:ext cx="66492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7494480" y="2914560"/>
          <a:ext cx="1104840" cy="687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94480" y="2914560"/>
                    <a:ext cx="1104840" cy="6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3035160" y="2968560"/>
            <a:ext cx="592200" cy="622080"/>
            <a:chOff x="3035160" y="2968560"/>
            <a:chExt cx="592200" cy="622080"/>
          </a:xfrm>
        </p:grpSpPr>
        <p:graphicFrame>
          <p:nvGraphicFramePr>
            <p:cNvPr id="223" name=""/>
            <p:cNvGraphicFramePr/>
            <p:nvPr/>
          </p:nvGraphicFramePr>
          <p:xfrm>
            <a:off x="3187800" y="2968560"/>
            <a:ext cx="287280" cy="393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87800" y="296856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5" name=""/>
            <p:cNvGraphicFramePr/>
            <p:nvPr/>
          </p:nvGraphicFramePr>
          <p:xfrm>
            <a:off x="3340080" y="3197160"/>
            <a:ext cx="287280" cy="393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2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40080" y="319716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"/>
            <p:cNvGraphicFramePr/>
            <p:nvPr/>
          </p:nvGraphicFramePr>
          <p:xfrm>
            <a:off x="3035160" y="3197160"/>
            <a:ext cx="287280" cy="393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035160" y="319716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9" name=""/>
          <p:cNvGrpSpPr/>
          <p:nvPr/>
        </p:nvGrpSpPr>
        <p:grpSpPr>
          <a:xfrm>
            <a:off x="5959440" y="2971800"/>
            <a:ext cx="591840" cy="642960"/>
            <a:chOff x="5959440" y="2971800"/>
            <a:chExt cx="591840" cy="642960"/>
          </a:xfrm>
        </p:grpSpPr>
        <p:graphicFrame>
          <p:nvGraphicFramePr>
            <p:cNvPr id="230" name=""/>
            <p:cNvGraphicFramePr/>
            <p:nvPr/>
          </p:nvGraphicFramePr>
          <p:xfrm>
            <a:off x="6097320" y="2971800"/>
            <a:ext cx="303120" cy="414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3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097320" y="2971800"/>
                      <a:ext cx="30312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2" name=""/>
            <p:cNvGraphicFramePr/>
            <p:nvPr/>
          </p:nvGraphicFramePr>
          <p:xfrm>
            <a:off x="6249960" y="3200400"/>
            <a:ext cx="301320" cy="41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33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249960" y="3200400"/>
                      <a:ext cx="30132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4" name=""/>
            <p:cNvGraphicFramePr/>
            <p:nvPr/>
          </p:nvGraphicFramePr>
          <p:xfrm>
            <a:off x="5959440" y="3208320"/>
            <a:ext cx="287280" cy="3938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3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959440" y="320832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36" name=""/>
          <p:cNvGraphicFramePr/>
          <p:nvPr/>
        </p:nvGraphicFramePr>
        <p:xfrm>
          <a:off x="3759120" y="2901960"/>
          <a:ext cx="1092240" cy="708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59120" y="2901960"/>
                    <a:ext cx="109224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829040" y="2843280"/>
          <a:ext cx="1022400" cy="753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829040" y="2843280"/>
                    <a:ext cx="102240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612720" y="361476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52000" y="3654360"/>
            <a:ext cx="1456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414600" y="4329000"/>
            <a:ext cx="0" cy="5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05280" y="3697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79920" y="370836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0200" y="369900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0200" y="37083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99640" y="3714840"/>
            <a:ext cx="100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ert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bar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43680" y="3759120"/>
            <a:ext cx="955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ert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44520" y="248292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73680" y="248112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26400" y="738360"/>
            <a:ext cx="206820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00ac0"/>
                </a:solidFill>
                <a:uFillTx/>
                <a:latin typeface="Arial"/>
              </a:rPr>
              <a:t>Precio Mercancí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Incluye Fletes y  Seguros al costado del buque e Incluye Despach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Ex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165480" y="4327200"/>
            <a:ext cx="1116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0000" y="4897440"/>
            <a:ext cx="2895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6840" y="4908600"/>
            <a:ext cx="298404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egar mercancía 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ado del bu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despacho de Ex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03720" y="22766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7760" y="1895400"/>
            <a:ext cx="58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7800" y="2260440"/>
            <a:ext cx="62485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2040" y="1730520"/>
            <a:ext cx="2819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200ac0"/>
                </a:solidFill>
                <a:latin typeface="Arial"/>
              </a:rPr>
              <a:t>Costo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00ac0"/>
                </a:solidFill>
                <a:latin typeface="Arial"/>
              </a:rPr>
              <a:t>del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00ac0"/>
                </a:solidFill>
                <a:latin typeface="Arial"/>
              </a:rPr>
              <a:t>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95560" y="1762200"/>
            <a:ext cx="2819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200ac0"/>
                </a:solidFill>
                <a:latin typeface="Arial"/>
              </a:rPr>
              <a:t>Costos del 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5097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Book Antiqua"/>
              </a:rPr>
              <a:t>FAS - </a:t>
            </a: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Free Alongside Ship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Book Antiqua"/>
              </a:rPr>
              <a:t>TRANSFERENCIA DE LA RESPONSABILIDAD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21:28:51Z</dcterms:created>
  <dc:creator>Cecilia</dc:creator>
  <dc:description/>
  <dc:language>en-US</dc:language>
  <cp:lastModifiedBy>Admin</cp:lastModifiedBy>
  <dcterms:modified xsi:type="dcterms:W3CDTF">2011-11-22T10:46:07Z</dcterms:modified>
  <cp:revision>9</cp:revision>
  <dc:subject/>
  <dc:title>Diapositiva 1</dc:title>
</cp:coreProperties>
</file>